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766-4EE4-4FDE-A44B-892A474D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F3C-BB0A-4B1B-8A89-2DAE08F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42D-B3B6-4AFB-9CAB-7460B087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63A-682B-4141-8F08-6AB3355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F8C-27D3-483B-9F60-7893E79D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090-A24E-422F-93B2-4DF1754D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074-1863-44F3-B353-491EBA4F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B99-9E63-4403-BE49-E4E1A2CE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9AC-B76E-43A5-B4A5-15BA627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B10-F16B-420F-9D57-EE25BD6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4A7-5284-43AF-9142-C2A384BD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B47-C823-4C88-AB52-DF4DD91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653-387E-43DA-8F6D-C0F0E19A6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25360" y="1038240"/>
            <a:ext cx="7103880" cy="1966680"/>
            <a:chOff x="1125360" y="1038240"/>
            <a:chExt cx="7103880" cy="1966680"/>
          </a:xfrm>
        </p:grpSpPr>
        <p:sp>
          <p:nvSpPr>
            <p:cNvPr id="42" name=""/>
            <p:cNvSpPr/>
            <p:nvPr/>
          </p:nvSpPr>
          <p:spPr>
            <a:xfrm>
              <a:off x="1125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0800000">
              <a:off x="168732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82080" y="155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6560" y="1038240"/>
              <a:ext cx="5706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18680" y="1038240"/>
              <a:ext cx="5508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9104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808080"/>
                  </a:solidFill>
                  <a:latin typeface="Times New Roman"/>
                </a:rPr>
                <a:t>23</a:t>
              </a: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1436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ff3300"/>
                  </a:solidFill>
                  <a:latin typeface="Times New Roman"/>
                </a:rPr>
                <a:t>13</a:t>
              </a: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048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008000"/>
                  </a:solidFill>
                  <a:latin typeface="Times New Roman"/>
                </a:rPr>
                <a:t>12</a:t>
              </a: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65960" y="1282680"/>
              <a:ext cx="1183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27800" y="1176120"/>
              <a:ext cx="69840" cy="146376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485280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159400" y="1214280"/>
              <a:ext cx="69840" cy="138744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139120" y="5446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tmos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5280" y="54612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o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1177920"/>
            <a:ext cx="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53240" y="1177920"/>
            <a:ext cx="0" cy="3808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76440" y="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ation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90840" y="492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2960" y="623880"/>
            <a:ext cx="15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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56240" y="12193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1960" y="2717640"/>
            <a:ext cx="8311680" cy="3911760"/>
            <a:chOff x="561960" y="2717640"/>
            <a:chExt cx="8311680" cy="39117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4795560" y="4832280"/>
                  <a:ext cx="9792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6820200" y="3149640"/>
              <a:ext cx="10738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-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6640" y="2819520"/>
              <a:ext cx="6257160" cy="3809880"/>
            </a:xfrm>
            <a:prstGeom prst="bracketPair">
              <a:avLst>
                <a:gd name="adj" fmla="val 740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8160" y="3090960"/>
              <a:ext cx="5663880" cy="7491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590440" y="4063320"/>
              <a:ext cx="3537000" cy="1185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272080" y="3090960"/>
              <a:ext cx="550800" cy="3369960"/>
              <a:chOff x="8272080" y="3090960"/>
              <a:chExt cx="550800" cy="3369960"/>
            </a:xfrm>
          </p:grpSpPr>
          <p:sp>
            <p:nvSpPr>
              <p:cNvPr id="70" name=""/>
              <p:cNvSpPr/>
              <p:nvPr/>
            </p:nvSpPr>
            <p:spPr>
              <a:xfrm>
                <a:off x="8272080" y="309096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72080" y="438228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72080" y="574272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215920" y="2819520"/>
              <a:ext cx="657720" cy="380988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1920" y="3024360"/>
              <a:ext cx="535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2920" y="5562720"/>
              <a:ext cx="621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61960" y="2819520"/>
              <a:ext cx="914040" cy="3809880"/>
              <a:chOff x="561960" y="2819520"/>
              <a:chExt cx="914040" cy="3809880"/>
            </a:xfrm>
          </p:grpSpPr>
          <p:sp>
            <p:nvSpPr>
              <p:cNvPr id="77" name=""/>
              <p:cNvSpPr/>
              <p:nvPr/>
            </p:nvSpPr>
            <p:spPr>
              <a:xfrm>
                <a:off x="653040" y="4384080"/>
                <a:ext cx="7185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1960" y="2819520"/>
                <a:ext cx="914040" cy="38098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457280" y="4543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179200">
              <a:off x="3578400" y="2931480"/>
              <a:ext cx="123048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339933"/>
                  </a:solidFill>
                  <a:latin typeface="Times New Roman"/>
                </a:rPr>
                <a:t>sola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095200">
              <a:off x="6444720" y="4788360"/>
              <a:ext cx="223164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808080"/>
                  </a:solidFill>
                  <a:latin typeface="Times New Roman"/>
                </a:rPr>
                <a:t>atm, terrest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543040" y="3011400"/>
                  <a:ext cx="5889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866120" y="3065400"/>
                  <a:ext cx="42012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16200" y="4125960"/>
                  <a:ext cx="1726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381840" y="42829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4514040" y="411156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5823360" y="426888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21440" y="416880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84680" y="558468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315960" y="574200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4317840" y="5578560"/>
                  <a:ext cx="17280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5889240" y="57355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7084440" y="559764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01920" y="5791320"/>
            <a:ext cx="41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e de violation de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82440" y="838080"/>
            <a:ext cx="8933040" cy="4724640"/>
            <a:chOff x="82440" y="838080"/>
            <a:chExt cx="8933040" cy="4724640"/>
          </a:xfrm>
        </p:grpSpPr>
        <p:grpSp>
          <p:nvGrpSpPr>
            <p:cNvPr id="97" name=""/>
            <p:cNvGrpSpPr/>
            <p:nvPr/>
          </p:nvGrpSpPr>
          <p:grpSpPr>
            <a:xfrm>
              <a:off x="82440" y="838080"/>
              <a:ext cx="8933040" cy="4724640"/>
              <a:chOff x="82440" y="838080"/>
              <a:chExt cx="8933040" cy="4724640"/>
            </a:xfrm>
          </p:grpSpPr>
          <p:sp>
            <p:nvSpPr>
              <p:cNvPr id="98" name=""/>
              <p:cNvSpPr/>
              <p:nvPr/>
            </p:nvSpPr>
            <p:spPr>
              <a:xfrm>
                <a:off x="82440" y="838080"/>
                <a:ext cx="8933040" cy="472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348200" y="1066680"/>
                <a:ext cx="6681960" cy="4309200"/>
                <a:chOff x="1348200" y="1066680"/>
                <a:chExt cx="6681960" cy="4309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428840" y="1341720"/>
                  <a:ext cx="6509880" cy="4034160"/>
                  <a:chOff x="1428840" y="1341720"/>
                  <a:chExt cx="6509880" cy="4034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081880" y="134172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443120" y="134172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672240" y="1341720"/>
                    <a:ext cx="126648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en-US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-i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440720" y="2351880"/>
                    <a:ext cx="237852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801240" y="2326680"/>
                    <a:ext cx="23544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428840" y="3884400"/>
                    <a:ext cx="24030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789720" y="3884400"/>
                    <a:ext cx="237888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35240" y="262836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35240" y="418644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348200" y="1066680"/>
                  <a:ext cx="6681960" cy="4267440"/>
                </a:xfrm>
                <a:prstGeom prst="bracketPair">
                  <a:avLst>
                    <a:gd name="adj" fmla="val 740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840680" y="1371600"/>
              <a:ext cx="6048720" cy="838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275080" y="2491200"/>
              <a:ext cx="3962520" cy="126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171280" y="1066680"/>
              <a:ext cx="703080" cy="4267440"/>
              <a:chOff x="8171280" y="1066680"/>
              <a:chExt cx="703080" cy="426744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231040" y="1371600"/>
                <a:ext cx="550800" cy="3690000"/>
                <a:chOff x="8231040" y="1371600"/>
                <a:chExt cx="550800" cy="3690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231040" y="13716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231040" y="281952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31040" y="43434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171280" y="1066680"/>
                <a:ext cx="703080" cy="42674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22840" y="1066680"/>
              <a:ext cx="703440" cy="4391280"/>
              <a:chOff x="222840" y="1066680"/>
              <a:chExt cx="703440" cy="4391280"/>
            </a:xfrm>
          </p:grpSpPr>
          <p:sp>
            <p:nvSpPr>
              <p:cNvPr id="120" name=""/>
              <p:cNvSpPr/>
              <p:nvPr/>
            </p:nvSpPr>
            <p:spPr>
              <a:xfrm>
                <a:off x="352800" y="1295280"/>
                <a:ext cx="53568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3040" y="4191120"/>
                <a:ext cx="512640" cy="12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22840" y="1066680"/>
                <a:ext cx="703440" cy="4267080"/>
                <a:chOff x="222840" y="1066680"/>
                <a:chExt cx="703440" cy="4267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2680" y="2819160"/>
                  <a:ext cx="552600" cy="12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2840" y="1066680"/>
                  <a:ext cx="703440" cy="4267080"/>
                </a:xfrm>
                <a:prstGeom prst="bracketPair">
                  <a:avLst>
                    <a:gd name="adj" fmla="val 17129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831600" y="299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920" y="649116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+ 2 phases Majorana termes diagon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79200">
            <a:off x="3203280" y="1215360"/>
            <a:ext cx="123048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0000"/>
                </a:solidFill>
                <a:latin typeface="Times New Roman"/>
              </a:rPr>
              <a:t>so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95200">
            <a:off x="6277680" y="3501000"/>
            <a:ext cx="208584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339933"/>
                </a:solidFill>
                <a:latin typeface="Times New Roman"/>
              </a:rPr>
              <a:t>atm,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44686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se et Mél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9760" y="39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432480" y="33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00" y="8820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cteur des Qu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4253040" cy="48578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910880"/>
            <a:ext cx="2112840" cy="1237680"/>
          </a:xfrm>
          <a:prstGeom prst="downArrowCallout">
            <a:avLst>
              <a:gd name="adj1" fmla="val 42681"/>
              <a:gd name="adj2" fmla="val 426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680" y="41994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nts Chargés: matric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79440" y="2924280"/>
            <a:ext cx="3847680" cy="1201320"/>
            <a:chOff x="379440" y="2924280"/>
            <a:chExt cx="3847680" cy="1201320"/>
          </a:xfrm>
        </p:grpSpPr>
        <p:grpSp>
          <p:nvGrpSpPr>
            <p:cNvPr id="138" name=""/>
            <p:cNvGrpSpPr/>
            <p:nvPr/>
          </p:nvGrpSpPr>
          <p:grpSpPr>
            <a:xfrm>
              <a:off x="379440" y="2924280"/>
              <a:ext cx="3847680" cy="479160"/>
              <a:chOff x="379440" y="2924280"/>
              <a:chExt cx="3847680" cy="47916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379440" y="2924280"/>
                    <a:ext cx="1853280" cy="47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2425680" y="2930760"/>
                    <a:ext cx="18014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08000" y="3623040"/>
                  <a:ext cx="2679840" cy="50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2120" y="1676520"/>
                <a:ext cx="3109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547640" y="1600200"/>
            <a:ext cx="6764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09800" y="5637600"/>
            <a:ext cx="2381040" cy="684000"/>
            <a:chOff x="1009800" y="5637600"/>
            <a:chExt cx="2381040" cy="6840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009800" y="5759280"/>
                  <a:ext cx="234288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q</m:t>
                              </m:r>
                            </m:sub>
                          </m:sSub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CKM</m:t>
                          </m:r>
                        </m:sup>
                      </m:sSubSup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 flipH="1">
              <a:off x="3051000" y="5637600"/>
              <a:ext cx="3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30360" y="4967280"/>
                <a:ext cx="334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KM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84440" y="4938840"/>
            <a:ext cx="109224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30320" y="882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teur des Neut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1504800"/>
            <a:ext cx="4249800" cy="4857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5080" y="1640520"/>
            <a:ext cx="3645360" cy="1063440"/>
          </a:xfrm>
          <a:prstGeom prst="downArrowCallout">
            <a:avLst>
              <a:gd name="adj1" fmla="val 58978"/>
              <a:gd name="adj2" fmla="val 49149"/>
              <a:gd name="adj3" fmla="val 16630"/>
              <a:gd name="adj4" fmla="val 718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èl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masse ni de 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5760" y="284436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its:  terme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D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uches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Majoran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43440" y="3938760"/>
            <a:ext cx="3809880" cy="706320"/>
            <a:chOff x="4843440" y="3938760"/>
            <a:chExt cx="3809880" cy="70632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994440" y="4025520"/>
                  <a:ext cx="16588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≡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4843440" y="3938760"/>
              <a:ext cx="2009520" cy="706320"/>
              <a:chOff x="4843440" y="3938760"/>
              <a:chExt cx="2009520" cy="706320"/>
            </a:xfrm>
          </p:grpSpPr>
          <mc:AlternateContent>
            <mc:Choice xmlns:a14="http://schemas.microsoft.com/office/drawing/2010/main" Requires="a14">
              <p:sp>
                <p:nvSpPr>
                  <p:cNvPr id="156" name=""/>
                  <p:cNvSpPr txBox="1"/>
                  <p:nvPr/>
                </p:nvSpPr>
                <p:spPr>
                  <a:xfrm>
                    <a:off x="4843440" y="4014720"/>
                    <a:ext cx="2009520" cy="55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 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"/>
              <p:cNvSpPr/>
              <p:nvPr/>
            </p:nvSpPr>
            <p:spPr>
              <a:xfrm>
                <a:off x="5811120" y="3938760"/>
                <a:ext cx="1041480" cy="7063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53160" y="4952880"/>
                <a:ext cx="382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S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713120" y="5727600"/>
                <a:ext cx="196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p>
                    </m:sSub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6477840" y="5561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781680" y="5559480"/>
            <a:ext cx="2058840" cy="690120"/>
            <a:chOff x="6781680" y="5559480"/>
            <a:chExt cx="2058840" cy="69012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81680" y="5695560"/>
                  <a:ext cx="19789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Φ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D</m:t>
                          </m:r>
                        </m:sup>
                      </m:sSubSup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 flipH="1">
              <a:off x="8556840" y="5559480"/>
              <a:ext cx="2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86440" y="6362640"/>
                <a:ext cx="2820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235320" y="1600200"/>
            <a:ext cx="6778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74080" y="4876920"/>
            <a:ext cx="109188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1:32:35Z</dcterms:created>
  <dc:creator>Campagne</dc:creator>
  <dc:description/>
  <dc:language>en-US</dc:language>
  <cp:lastModifiedBy>J.E Campagne</cp:lastModifiedBy>
  <dcterms:modified xsi:type="dcterms:W3CDTF">2008-09-18T14:35:01Z</dcterms:modified>
  <cp:revision>1</cp:revision>
  <dc:subject/>
  <dc:title>Présentation PowerPoint</dc:title>
</cp:coreProperties>
</file>