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F983-0CD3-4ACC-AE37-7D0E6D38E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2B32-1484-472C-BD9E-27B4A31E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D7BF-42E5-46A0-BB12-21B20C236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DE83-2B20-4AD4-ACD3-25A3099CF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B3B6-8F06-487A-8A92-FDA5B604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7630-C707-4106-B180-47F3323E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3D64-5CC9-4993-9C6B-0E3BC561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633F-E586-4651-B4CF-F9F745DA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0535-E67F-44BE-B6AA-BBE275A7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9820-B2B7-433A-B2CB-766DA401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969D-CF54-494C-9DFE-B3AE8D90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DE08-8680-41DE-9E0E-BEE53290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342C-4F80-4772-B3A0-BB3C2626442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8EE5-0250-4AAA-9778-9310CD8A2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2665440" cy="2322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87440" y="335592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0% de 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10160" y="5493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km Ge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76720" y="915840"/>
            <a:ext cx="2519280" cy="2295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08160" y="335592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% de 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796000" y="907920"/>
            <a:ext cx="2535120" cy="2332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427440" y="335592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0.1% de 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203640" y="3860640"/>
            <a:ext cx="3095640" cy="2733840"/>
            <a:chOff x="3203640" y="3860640"/>
            <a:chExt cx="3095640" cy="2733840"/>
          </a:xfrm>
        </p:grpSpPr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3203640" y="3860640"/>
              <a:ext cx="3095640" cy="27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4626360" y="6040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89920" y="573264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</a:t>
              </a:r>
              <a:r>
                <a:rPr b="1" lang="en-US" sz="1800" spc="-1" strike="noStrike" baseline="30000">
                  <a:solidFill>
                    <a:srgbClr val="ffffff"/>
                  </a:solidFill>
                  <a:latin typeface="Math1Mono"/>
                  <a:ea typeface="Math1Mono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592080" y="5373720"/>
              <a:ext cx="26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45320" y="4005360"/>
              <a:ext cx="7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</a:t>
              </a:r>
              <a:r>
                <a:rPr b="1" lang="en-US" sz="1800" spc="-1" strike="noStrike" baseline="30000">
                  <a:solidFill>
                    <a:srgbClr val="ffffff"/>
                  </a:solidFill>
                  <a:latin typeface="Math1Mono"/>
                  <a:ea typeface="Math1Mono"/>
                </a:rPr>
                <a:t></a:t>
              </a: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</a:t>
              </a: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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26400" y="6165720"/>
              <a:ext cx="1049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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Math1Mono"/>
                  <a:ea typeface="Math1Mono"/>
                </a:rPr>
                <a:t>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(2GeV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F1521C-D1B1-49E5-AABA-FF8E1986DC1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13:18:27Z</dcterms:created>
  <dc:creator>J.E Campagne</dc:creator>
  <dc:description/>
  <dc:language>en-US</dc:language>
  <cp:lastModifiedBy>J.E Campagne</cp:lastModifiedBy>
  <dcterms:modified xsi:type="dcterms:W3CDTF">2005-11-30T15:26:52Z</dcterms:modified>
  <cp:revision>6</cp:revision>
  <dc:subject/>
  <dc:title>Diapositive 1</dc:title>
</cp:coreProperties>
</file>