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8292-E76D-466D-9745-FC1C3751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0A2E-D268-4305-B656-8F70A865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526A-8B5C-4B33-AF39-81DCD1CE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0F84-571B-4257-A0AB-0816B795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3710-A720-496D-94AE-F6E245C2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0808-AC5A-4301-A981-95BB544F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F1FE-3636-4788-963D-A218FE5B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D4E3-5042-4DFB-9F1E-D8257152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9843-53DC-4B96-B70C-242B3941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D70E-AC45-42A9-A3B7-F512273B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E700-C0A4-4A47-BEDD-13517A2E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786C-7717-45AE-B091-E1E2DF41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3F80-50B2-408F-B043-AFD0C263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D381-9B8D-4FF9-8F5F-85AA53F3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A468-70B3-481D-8A5C-9CE475DA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B135-A673-4E63-ACAA-B2659E59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EC08-6FA8-4240-A80C-033E0855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B73D-2CAB-4B26-8243-473789ED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3FF-6C03-4DD3-AA1B-C336B43D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3169-BC4F-432B-B333-12BFB96B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5492-84B4-43ED-8B9C-7972268A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9820-FADE-48D7-B081-6288C6A7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9418-F7B0-41D5-81D1-B1E0E4F6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66D7-C95D-448D-B56A-F8FCE942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FF92-4A9A-4063-AD7C-D08262F43CC8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8942-B0D8-42D9-97F2-DED1E14EFC2E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MEMPHYS MC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esent stat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71280" y="404280"/>
            <a:ext cx="763884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vent Generator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Tahoma"/>
              </a:rPr>
              <a:t>NUANC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for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beam,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Atmospheric &amp; Proton Dec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imulation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ersion 0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dapted from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Geant 4 code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used by M. Fechner et al. for T2K-WC-2km. The simulation was x-checked using SK &amp; K2K data.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Water &amp; PMT &amp; Black sheet optical paramete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urrent version 7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terface with the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OpenScientist v16r0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framework (G. Barrand@LAL) provided using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distribution kit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including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Geant4 &amp; CLHEP &amp; AIDA-IO implementation to RIO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also HDF5, XM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3 modes of running in the same framework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 algn="just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active Viewing, Batch processing, AIDA_ROOT analy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260280"/>
            <a:ext cx="76388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urrent version 7 (Cont’ed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vent info from M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rimary + non-Optical photons track inf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its: each PM maintain a list of arrival time of optical photons detected (i.e photo-cathod efficienc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uture develop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Code review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to improve the geometry implementation, clean up the patches used to adapt the code from T2K-WC to MEMPHYS use c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mplement the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electronics simulation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work in collaboration with B. Genolini (IPNO) in the context of PMm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mplement a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Data Model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to be able to do “replay” event-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2665440" cy="2322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87440" y="33559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0% de </a:t>
            </a: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1440" y="33336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2km WC Geom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76720" y="915840"/>
            <a:ext cx="2519280" cy="2295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908160" y="335592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% de </a:t>
            </a: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796000" y="907920"/>
            <a:ext cx="2535120" cy="2332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427440" y="335592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1% de </a:t>
            </a: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203640" y="3860640"/>
            <a:ext cx="3095640" cy="2733840"/>
            <a:chOff x="3203640" y="3860640"/>
            <a:chExt cx="3095640" cy="2733840"/>
          </a:xfrm>
        </p:grpSpPr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3203640" y="3860640"/>
              <a:ext cx="309564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626360" y="6040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89920" y="57326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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ath1Mono"/>
                  <a:ea typeface="Math1Mono"/>
                </a:rPr>
                <a:t>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92080" y="537372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45320" y="4005360"/>
              <a:ext cx="7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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ath1Mono"/>
                  <a:ea typeface="Math1Mono"/>
                </a:rPr>
                <a:t></a:t>
              </a: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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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26400" y="6165720"/>
              <a:ext cx="1049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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Math1Mono"/>
                  <a:ea typeface="Math1Mono"/>
                </a:rPr>
                <a:t>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2GeV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6480000" cy="5048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256360" y="0"/>
            <a:ext cx="3887640" cy="3029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814880" y="2852640"/>
            <a:ext cx="927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0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15720" y="915840"/>
            <a:ext cx="2197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fr-FR" sz="4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fr-FR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fr-FR" sz="3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  <a:ea typeface="Arial"/>
              </a:rPr>
              <a:t>→e</a:t>
            </a:r>
            <a:r>
              <a:rPr b="0" lang="fr-FR" sz="3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10520" y="587700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PHYS v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3357720"/>
            <a:ext cx="2313000" cy="146556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active histogram to identify the e Michel optical photon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840" y="1860480"/>
            <a:ext cx="30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Only detected op. phor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5400720" cy="3930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56360" y="1844640"/>
            <a:ext cx="2448000" cy="1927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rcRect l="2209" t="0" r="1341" b="0"/>
          <a:stretch/>
        </p:blipFill>
        <p:spPr>
          <a:xfrm>
            <a:off x="6170760" y="3959280"/>
            <a:ext cx="2433600" cy="1774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237800" y="630864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PHYS v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87080" y="692280"/>
            <a:ext cx="5914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fr-FR" sz="40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atmospheric (1-10GeV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12:20:59Z</dcterms:created>
  <dc:creator>J.E Campagne</dc:creator>
  <dc:description/>
  <dc:language>en-US</dc:language>
  <cp:lastModifiedBy>J.E Campagne</cp:lastModifiedBy>
  <dcterms:modified xsi:type="dcterms:W3CDTF">2007-06-19T09:56:53Z</dcterms:modified>
  <cp:revision>6</cp:revision>
  <dc:subject/>
  <dc:title>MEMPHYS MC</dc:title>
</cp:coreProperties>
</file>