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962F8-CA9A-463C-ABC7-94C91C1D9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AE25B-0D42-49E2-97FA-821B2EA73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FB536-0E27-4EB4-A2F5-8FE3C19AC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EDD63-20FF-489F-8059-5A7643C9A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C21BC-6EB6-4021-AEDD-8B80FA806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6239E-5BF2-48D6-8F03-902E5C966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5C844-9F94-4A6C-B1F3-342203BE4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E0D4D-C9BC-4D68-ABD6-48C6961AF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1C0CA-A885-4872-8FB4-6B3C8EB30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397B4-FAF7-49A0-B35F-9D95914E1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CF4C9-4F06-4312-A0F6-86D1D42D4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5A668-B5B4-489D-8D85-4B9E3C1F2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ED0B0-5854-4E2F-B038-1E1CEB4EF1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836280"/>
            <a:ext cx="7772400" cy="14698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MPHYN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32000" y="2852280"/>
            <a:ext cx="64008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imulation studies for the prototype of MEMPHYS det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284720" y="6165720"/>
            <a:ext cx="4411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essandra Tonazzo/AP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ikos Vassilopoulos/L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950760" y="1916280"/>
            <a:ext cx="7581960" cy="449568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MEMPHYNO </a:t>
            </a:r>
            <a:br>
              <a:rPr sz="32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uons 1 Ge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1280" y="1413000"/>
            <a:ext cx="889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of PMTs per muon, # of opticalphotons per PMT, opticalphotons’ arrival times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059280" y="299736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lacksheet reflect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348000" y="5300640"/>
            <a:ext cx="316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lacksheet reflectivity=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258920" y="2781360"/>
            <a:ext cx="12254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687840" y="2558880"/>
            <a:ext cx="1839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49480" y="6432480"/>
            <a:ext cx="3647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k muons generated at the detector’s surface with pz / p = -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826920" y="2349360"/>
            <a:ext cx="7581960" cy="449604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MEMPHYNO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br>
              <a:rPr sz="28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uons 1 Ge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822960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95280" y="1268280"/>
            <a:ext cx="8118360" cy="90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ght propagation effect of OPs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of distance between muon’s exit point and detection PMT’s coordinates versus detection 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564000" y="2637000"/>
            <a:ext cx="93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z/p = -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969840" y="2637000"/>
            <a:ext cx="108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z/p = -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156360" y="263700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z/p = -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042920" y="4840200"/>
            <a:ext cx="86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z/p &lt; 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778200" y="5313240"/>
            <a:ext cx="52578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z/p = -1 : later produced OPs are detected fir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z/p &lt; 0  : relation not cle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996720" y="3860640"/>
            <a:ext cx="2023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lacksheet reflect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908000" y="3213000"/>
            <a:ext cx="576360" cy="576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124000" y="3389400"/>
            <a:ext cx="184320" cy="183960"/>
          </a:xfrm>
          <a:prstGeom prst="rect">
            <a:avLst/>
          </a:prstGeom>
          <a:solidFill>
            <a:srgbClr val="bbe0e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581360" y="3367080"/>
            <a:ext cx="277920" cy="277920"/>
          </a:xfrm>
          <a:prstGeom prst="rect">
            <a:avLst/>
          </a:prstGeom>
          <a:noFill/>
          <a:ln w="2844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310520" y="3284640"/>
            <a:ext cx="574560" cy="504720"/>
          </a:xfrm>
          <a:prstGeom prst="rect">
            <a:avLst/>
          </a:prstGeom>
          <a:noFill/>
          <a:ln w="2844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020360" y="3068640"/>
            <a:ext cx="1108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ntry/exit: edg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142880" y="2997360"/>
            <a:ext cx="113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ntry/exit: midd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269800" y="5516640"/>
            <a:ext cx="7020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agona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raject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619640" y="2997360"/>
            <a:ext cx="111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ntry/exit: cent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429080" y="3213000"/>
            <a:ext cx="574560" cy="576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MEMPHYNO </a:t>
            </a:r>
            <a:br>
              <a:rPr sz="32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urther simulation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2467080" y="2276640"/>
            <a:ext cx="4336920" cy="305748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29600" cy="11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-going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ign of larger/different configurations for MEMPHYNO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ummer student working on this at APC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39640" y="5416560"/>
            <a:ext cx="8229600" cy="11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ture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alyses of different electrons samples &amp; new configur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lusion of noise and digitiz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MEMPHYNO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br>
              <a:rPr sz="40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detector prototype, similar to a MEMPHYS module, is going to provide a solid platform to perform tests on electronics 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Q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lf trigge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reshold studi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alyses, as far as detector characteristics allow, could be performed for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rtex find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ght propag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MEMPHYNO </a:t>
            </a:r>
            <a:br>
              <a:rPr sz="32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imulation parame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00000" y="1600200"/>
            <a:ext cx="7786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PHYS, underwater cherenkov detector simulation &amp; visualization code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y Jean-Eric Campagne, Guy Barrand et al. (based on GEANT4)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x2x2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³ water volu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 different PMTs’ modules simulated at bottom sid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x4 12in PMTs 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324160" indent="-38088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~35% coverag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(for one side, shown her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x4 10in PMTs 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324160" indent="-38088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~20% coverag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(for one side, availabl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ter refraction &amp;  blacksheet parameters a la 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PHYNO detector disp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948360" y="5894280"/>
            <a:ext cx="792360" cy="343080"/>
          </a:xfrm>
          <a:prstGeom prst="rightArrow">
            <a:avLst>
              <a:gd name="adj1" fmla="val 50000"/>
              <a:gd name="adj2" fmla="val 5773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MEMPHYNO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br>
              <a:rPr sz="32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etector visu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1280" y="1622520"/>
            <a:ext cx="435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ectron 10 MeV, pz / p = -1, vtx : cent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716360" y="1622520"/>
            <a:ext cx="424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on 1 GeV, pz / p = -1, vtx : top cent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476360" y="5805360"/>
            <a:ext cx="635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hots taken only for optical photons detec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79280" y="2112840"/>
            <a:ext cx="4156200" cy="31878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808520" y="2112840"/>
            <a:ext cx="4156200" cy="318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539640" y="1341360"/>
            <a:ext cx="82296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ticles generated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0k events samples per particle per energy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-452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ectrons: E = 1 to 25 MeV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int-like sources deployed at the detector cent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-452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ons: E = 1 GeV, pz/p = -1 (also pz/p &lt; 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wnward selected mu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lots of the following event (particle) characteristic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-452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# of PMTs per electr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-452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# of opticalphotons per PM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-452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pticalphotons’ arrival times at PM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eliminary analyses for vertex reconstruction &amp; light propag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34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10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MEMPHYNO </a:t>
            </a:r>
            <a:br>
              <a:rPr sz="32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vent reco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740720" y="5589720"/>
            <a:ext cx="792000" cy="342720"/>
          </a:xfrm>
          <a:prstGeom prst="rightArrow">
            <a:avLst>
              <a:gd name="adj1" fmla="val 50000"/>
              <a:gd name="adj2" fmla="val 577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87280" y="259920"/>
            <a:ext cx="68421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MEMPHYNO </a:t>
            </a:r>
            <a:br>
              <a:rPr sz="32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lectrons 1 to 25 Me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9640" y="1352520"/>
            <a:ext cx="446400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of PMTs per electron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781200" y="1812960"/>
            <a:ext cx="7581600" cy="449568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3485520" y="3284640"/>
            <a:ext cx="20232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lacksheet reflect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9840" y="6478560"/>
            <a:ext cx="422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x10k electrons generated at the detector’s centre with random direc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2877840" y="260280"/>
            <a:ext cx="3146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MEMPHYN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lectrons 1 to 25 Me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81760" y="1341360"/>
            <a:ext cx="357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of opticalphotons per PMT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781200" y="1916280"/>
            <a:ext cx="7581600" cy="44956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3341160" y="3141720"/>
            <a:ext cx="2023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lacksheet reflect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09840" y="6478560"/>
            <a:ext cx="422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x10k electrons generated at the detector’s centre with random direc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879640" y="260280"/>
            <a:ext cx="3146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MEMPHYN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lectrons 1 to 25 Me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94280" y="1341360"/>
            <a:ext cx="35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ticalphotons’ arrival times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755640" y="1916280"/>
            <a:ext cx="7581960" cy="449568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3269880" y="3236760"/>
            <a:ext cx="2023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lacksheet reflect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09840" y="6478560"/>
            <a:ext cx="422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x10k electrons generated at the detector’s centre with random direc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2917080" y="44280"/>
            <a:ext cx="3231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MEMPHYN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lectrons 1 to 25 MeV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-108000" y="765000"/>
            <a:ext cx="3889440" cy="9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verage values of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 of PMTs per elect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s’ per PM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s’ arrival ti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1738440"/>
            <a:ext cx="3027240" cy="284292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6012000" y="1773360"/>
            <a:ext cx="3027240" cy="284292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5651640" y="765000"/>
            <a:ext cx="3456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cksheet reflective a la S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cksheet 100% absorp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950760" y="5799240"/>
            <a:ext cx="19656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2484360" y="4724280"/>
          <a:ext cx="3954600" cy="1308240"/>
        </p:xfrm>
        <a:graphic>
          <a:graphicData uri="http://schemas.openxmlformats.org/drawingml/2006/table">
            <a:tbl>
              <a:tblPr/>
              <a:tblGrid>
                <a:gridCol w="954000"/>
                <a:gridCol w="428760"/>
                <a:gridCol w="428760"/>
                <a:gridCol w="428400"/>
                <a:gridCol w="428760"/>
                <a:gridCol w="428760"/>
                <a:gridCol w="428400"/>
                <a:gridCol w="428760"/>
              </a:tblGrid>
              <a:tr h="327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 E (MeV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 / MeV / e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7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 6 (side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MPH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2921040" y="1744560"/>
            <a:ext cx="3019320" cy="28368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898560" y="6165720"/>
            <a:ext cx="7345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ble:  MEMPHYNO’s OPs detected per MeV per electron with blacksheet reflective (numbers calculated from the total # of OPs per Energy run not from the averag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99240" y="3068640"/>
            <a:ext cx="3451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7x10k electrons generated at the detector’s centre with random direc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372000" y="5373720"/>
            <a:ext cx="206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ilar to MEMPHY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781200" y="2173320"/>
            <a:ext cx="7581600" cy="449568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MEMPHYNO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lectrons 10 MeV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: vertex fin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09400" y="1197000"/>
            <a:ext cx="7529760" cy="93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mary vertex fit based on each  PMT’s timing info:  t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 PM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= t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TOF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&gt; t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 t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 PM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TOF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where TOF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(n / c)  x  D, D = distance between each PMT and fitting point’s coordina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ximize estimator E(t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to find the true vertex of electron 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77440" y="3597120"/>
            <a:ext cx="2023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lacksheet reflect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499360" y="5305320"/>
            <a:ext cx="3620520" cy="93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0 % reconstruction efficiency exactl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true vertex for 10k electrons generated at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tector’s centre with random direc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924720" y="2565360"/>
            <a:ext cx="92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best fi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228000" y="2565360"/>
            <a:ext cx="92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best fi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116360" y="4761000"/>
            <a:ext cx="92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best fi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635640" y="4761000"/>
            <a:ext cx="92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best fi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30T14:10:10Z</dcterms:created>
  <dc:creator>vassilo</dc:creator>
  <dc:description/>
  <dc:language>en-US</dc:language>
  <cp:lastModifiedBy>vassilo</cp:lastModifiedBy>
  <dcterms:modified xsi:type="dcterms:W3CDTF">2007-06-10T21:12:52Z</dcterms:modified>
  <cp:revision>85</cp:revision>
  <dc:subject/>
  <dc:title>Diapositive 1</dc:title>
</cp:coreProperties>
</file>