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970-F999-4055-AC6E-90F4FB9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7C1-514F-415C-932A-D17F31D0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C55-6D85-436F-9343-84613A43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9BEC-6775-4CE7-86E4-28FD4F54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305-96D6-46AE-B510-C49D1420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E92-528D-4B81-ADBD-5A5103E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12F-FD97-4825-9A3E-D52AEAF9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E79-B715-432B-B202-48B29F75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F50-5847-4775-AB16-F4D2BF0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81F-8360-4CBF-B826-813A67E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3579-8ED0-4805-B261-0B2AEF4B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B00-151F-4E6D-8E72-3F1FDCD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A8BC78-1DF1-4A3E-A82F-448EFEA82A7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606600"/>
            <a:ext cx="1901880" cy="2590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9600" y="3544920"/>
            <a:ext cx="1890720" cy="26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SINGLE-CHIP REAL-TIME DUAL BEAM FORMER WITH CORRELATION CAPABILITIES AT N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5600" y="490680"/>
            <a:ext cx="616428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 Virtex-5 FXT 100 FPGA/KIT ML5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 twin Channels for FAN (but 24 complex gain sets), 24 (and later 32) channels for BAO cylinder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ull rate dual beam-forming for trigger  ~3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dition from 2 to 65536 dual square-modu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relation : Visibility of only one channel pair at the same time &lt;=&gt; full rate with effective trigger 390Hz for 78 visibilities (12 channels) =&gt; Source trackin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8284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CasA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498760" y="3371760"/>
            <a:ext cx="2362320" cy="125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498760" y="4581360"/>
            <a:ext cx="2362320" cy="130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32560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78400" y="5848200"/>
            <a:ext cx="27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sults on 3c123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1160" y="3255840"/>
            <a:ext cx="2765520" cy="299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51560" y="3429000"/>
            <a:ext cx="2305080" cy="1214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608800" y="4638600"/>
            <a:ext cx="2189160" cy="117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6E5-97B8-4DEB-805E-B52086907B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SAME FPGA AND ANOTHER FIRM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3680" y="2968560"/>
            <a:ext cx="8353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rtex 5 FxT 100 has 256 multipliers and 16 GtX transceivers : #16 at half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#32 at 1/8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KIT Virtex-6 ML623** (LXT 240) has 768 multipliers and 24 GTX transceivers = 48 channels of ADC board, and can perform full-rate correlation at #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** $ 4995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3680" y="836640"/>
            <a:ext cx="858348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 channels : N(N+1)/2 elements in the visibility matrix =&gt; 2 multipliers on the diagonal + 4 multipliers on the other parts =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2N</a:t>
            </a:r>
            <a:r>
              <a:rPr b="0" lang="fr-FR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2 channels =&gt;  28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16 channels =&gt;  51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24 channels =&gt; 1152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#32 channels=&gt; 2048 multi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4465800"/>
            <a:ext cx="161280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6B9-CBB3-4988-AD2E-3BC5E1ABBF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OMPUTATION OF THE VISIBILITIES WITH THE NEW VC707 VIRTEX-7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0040" y="706320"/>
            <a:ext cx="2019240" cy="415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2000" y="4876920"/>
            <a:ext cx="8982000" cy="1428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19640" y="1152360"/>
            <a:ext cx="234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UNIBO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0,304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(SF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70 canaux /coup horlo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10304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398920" y="2879640"/>
            <a:ext cx="1082880" cy="18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400720" y="2338560"/>
            <a:ext cx="1440" cy="54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0360" y="1138320"/>
            <a:ext cx="251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C7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2800 multiplieu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16x 10GbPS Rx+Tx  (FM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Visi 37 canaux /coup horlo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(2800/2)</a:t>
            </a:r>
            <a:r>
              <a:rPr b="0" lang="fr-FR" sz="1300" spc="-1" strike="noStrike" baseline="33000">
                <a:solidFill>
                  <a:srgbClr val="000000"/>
                </a:solidFill>
                <a:latin typeface="Arial"/>
              </a:rPr>
              <a:t>1/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240000" y="1978200"/>
            <a:ext cx="1800" cy="2882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B53-40BF-4516-AB3D-BD057B7D402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CLOCK DISTRIBUTION (DISTCL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28800" y="4581360"/>
            <a:ext cx="311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70120" y="4178160"/>
            <a:ext cx="3282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emi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0040" y="4465800"/>
            <a:ext cx="922320" cy="979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92360" y="4984920"/>
            <a:ext cx="1323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16080" y="45212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55609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by external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95640" y="5041800"/>
            <a:ext cx="2708280" cy="276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xternal 10MHz Reference C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62480" y="4520880"/>
            <a:ext cx="180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00080" y="2506680"/>
            <a:ext cx="236232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16080" y="2850840"/>
            <a:ext cx="180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94320" y="2850840"/>
            <a:ext cx="1440" cy="13287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94320" y="3371760"/>
            <a:ext cx="289080" cy="287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92440" y="3486240"/>
            <a:ext cx="149868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4604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6440" y="1585800"/>
            <a:ext cx="241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8604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1585800"/>
            <a:ext cx="190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2506680"/>
            <a:ext cx="236196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ISTCLK (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94320" y="2046240"/>
            <a:ext cx="460440" cy="460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1585800"/>
            <a:ext cx="241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x RJ 45 Clock &amp; command for 8  ADC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2162160"/>
            <a:ext cx="230040" cy="34452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47040" y="1585800"/>
            <a:ext cx="190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x differential clocks for RF 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1469880"/>
            <a:ext cx="1440" cy="178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148-EEFB-416A-AC69-14DFA3A6123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6440" y="146160"/>
            <a:ext cx="8915400" cy="307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ACTIONS A VEN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079640"/>
            <a:ext cx="8099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L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nçay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Visibilités en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Gains obtenus par les visibilités du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ual beam avec ces gains en transit et/ou pour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pier Real-Time 2012 à Berkeley (si accept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855880"/>
            <a:ext cx="80996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ST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routines de comm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implification du code C du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se au point de la carte réceptrice pour traitement de l'horloge fibre encod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20000" y="4140360"/>
            <a:ext cx="1019160" cy="90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908840" y="4929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tagi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99280" y="378000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378000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4421160"/>
            <a:ext cx="8070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tomatisation Acq LAL/Corrélateur/DISTCLK/Chari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melioration du firmware du FPGA corrél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RAZ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dividu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 chaque MG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nitoring de l’alignement, lock PLLs… sur chaque ca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Descham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21D-60BA-43EC-870C-2F762C464EF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.3.201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50:51Z</dcterms:created>
  <dc:creator>deschamps</dc:creator>
  <dc:description/>
  <dc:language>en-US</dc:language>
  <cp:lastModifiedBy>deschamps</cp:lastModifiedBy>
  <dcterms:modified xsi:type="dcterms:W3CDTF">2012-03-29T17:37:50Z</dcterms:modified>
  <cp:revision>21</cp:revision>
  <dc:subject/>
  <dc:title>Diapositive 1</dc:title>
</cp:coreProperties>
</file>