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73D-7D9E-486D-8EB1-F7A0B4AF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0B2-D07A-4941-BA91-8FA5C070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8E2-32DA-4084-B91C-D971CCCC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6C8-624F-4CF9-B9D1-610B96CA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D0A5B-02BA-4FC8-BED8-04512156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ED732-CE54-442B-8BCD-C2E557B7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29272-C25D-4159-9BE4-F2BEC26B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391F1-78A3-4753-AF8C-BB279258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0375E-D008-4C8B-9B2D-5625E46F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1D065-3FD2-406A-B9B0-EF0C37C3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50DC0-9110-4F95-88B0-D1BBCF51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AF8-2558-4BCE-B32E-07784B4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1F8C-9D26-459F-BEA5-3C77D5D1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E9E0A-5D2B-4839-90FD-BB4EBBF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90EAD-555F-4F1A-A5C3-289B2A7A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5DFAE-EF48-45A9-86B6-8FE0E7F9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5C720-DD6B-4975-AECA-22F9E93D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692-BE1E-4D5E-8AFE-0EC44A6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46F-D581-40C4-8A59-A403A8FF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BF6-3D76-45E7-A58E-97DA778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DCB-9325-4954-819E-1E5A3C5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E5B-21F7-422D-9EC2-DB15E30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8C0-6D56-4779-9FE7-151769DB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48A-EBA2-4814-905B-616EA594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CFF5-C0F4-49F1-9ECD-F7BB5749A1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FED2-9D40-4A10-BB46-3C59D453A3C7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à coins arrondis 1"/>
          <p:cNvSpPr/>
          <p:nvPr/>
        </p:nvSpPr>
        <p:spPr>
          <a:xfrm>
            <a:off x="2268360" y="1341360"/>
            <a:ext cx="4896000" cy="647640"/>
          </a:xfrm>
          <a:prstGeom prst="roundRect">
            <a:avLst>
              <a:gd name="adj" fmla="val 16667"/>
            </a:avLst>
          </a:prstGeom>
          <a:solidFill>
            <a:srgbClr val="38ff38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ahoma"/>
              </a:rPr>
              <a:t>coP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0173"/>
                </a:solidFill>
                <a:latin typeface="Tahoma"/>
              </a:rPr>
              <a:t>J.E.Campagne               J.M.Martin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à coins arrondis 2"/>
          <p:cNvSpPr/>
          <p:nvPr/>
        </p:nvSpPr>
        <p:spPr>
          <a:xfrm>
            <a:off x="1692360" y="115920"/>
            <a:ext cx="6048360" cy="11523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Animation Scientifiq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R.Ansari , Ch. Magneville, J.M.Mart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.E Campagne, P. Colom, S. Mei, M. Moniez, A. S. Torrento,Ch. Yèc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à coins arrondis 4"/>
          <p:cNvSpPr/>
          <p:nvPr/>
        </p:nvSpPr>
        <p:spPr>
          <a:xfrm>
            <a:off x="2268360" y="2060640"/>
            <a:ext cx="2232360" cy="7920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Ing. Proje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Elec. &amp; Sof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. Charl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à coins arrondis 5"/>
          <p:cNvSpPr/>
          <p:nvPr/>
        </p:nvSpPr>
        <p:spPr>
          <a:xfrm>
            <a:off x="4643280" y="2060640"/>
            <a:ext cx="2521080" cy="7920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Ing. Proj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Méca. &amp; Déploiem</a:t>
            </a:r>
            <a:r>
              <a:rPr b="1" lang="fr-FR" sz="1800" spc="-1" strike="noStrike" baseline="30000">
                <a:solidFill>
                  <a:srgbClr val="ffff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. Riga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à coins arrondis 6"/>
          <p:cNvSpPr/>
          <p:nvPr/>
        </p:nvSpPr>
        <p:spPr>
          <a:xfrm>
            <a:off x="2268360" y="2924280"/>
            <a:ext cx="2232360" cy="792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Elec. Analogiq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h. Abb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à coins arrondis 7"/>
          <p:cNvSpPr/>
          <p:nvPr/>
        </p:nvSpPr>
        <p:spPr>
          <a:xfrm>
            <a:off x="1116000" y="3789360"/>
            <a:ext cx="3384720" cy="863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Elec. Digit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Th. Caceres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. Dumez-Viou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h. Flouzat, 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B. Lachacinsk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à coins arrondis 8"/>
          <p:cNvSpPr/>
          <p:nvPr/>
        </p:nvSpPr>
        <p:spPr>
          <a:xfrm>
            <a:off x="1619280" y="4724280"/>
            <a:ext cx="2881440" cy="792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Software DA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B. Mansoux, Cl. Paillet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. Taurig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à coins arrondis 9"/>
          <p:cNvSpPr/>
          <p:nvPr/>
        </p:nvSpPr>
        <p:spPr>
          <a:xfrm>
            <a:off x="1692360" y="5661000"/>
            <a:ext cx="2808360" cy="100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Crtl-Commande &amp; réseau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. Wicek, P. Cornebi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à coins arrondis 10"/>
          <p:cNvSpPr/>
          <p:nvPr/>
        </p:nvSpPr>
        <p:spPr>
          <a:xfrm>
            <a:off x="4643280" y="2924280"/>
            <a:ext cx="3529080" cy="792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Logistique &amp; liaison Nanç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. Garnier,  S. Torchinsk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à coins arrondis 11"/>
          <p:cNvSpPr/>
          <p:nvPr/>
        </p:nvSpPr>
        <p:spPr>
          <a:xfrm>
            <a:off x="4643280" y="3824280"/>
            <a:ext cx="2232360" cy="792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Calcul 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J. Pezz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2:20:35Z</dcterms:created>
  <dc:creator>J.E CAMPAGNE</dc:creator>
  <dc:description/>
  <dc:language>en-US</dc:language>
  <cp:lastModifiedBy>J.E CAMPAGNE</cp:lastModifiedBy>
  <dcterms:modified xsi:type="dcterms:W3CDTF">2012-04-11T12:21:27Z</dcterms:modified>
  <cp:revision>1</cp:revision>
  <dc:subject/>
  <dc:title>Diapositive 1</dc:title>
</cp:coreProperties>
</file>