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891C-500A-4EEE-B58F-2B1D2CBD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85C2-89AC-447B-A620-19E71C18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A8F9-898D-4793-9843-A4D3F835D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EF4-621B-4C98-9BE0-1B7A18B7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BF0D5-A941-47AF-BFEA-17EABCFCD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81AF33-A1E3-40B6-B2E1-A787B8DEE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A6363-B76C-4805-A541-6A9CE5C1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28852-AC01-451F-BF55-0A45B3E1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84B72C-782A-4B77-9552-FBCBF11B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820E9-F513-4A60-965E-A4A15201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C67E5-F0ED-4D6D-AD80-9771AB00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DEE-9BE9-4BF3-BBCC-BECAFF37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31626-DF06-47FD-9795-135253E75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05AF4-1B62-4EAF-BE92-EFA53646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070B1-21B2-4F7A-9899-DB09B856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EFFF5-B01E-415B-8126-720F33D9B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08081-A25E-49A9-9FCF-8FE671D7E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846F-BA8F-400B-AA2A-F628AAB15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7EA-45C6-4E6A-AFEE-50E4D454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D2B5-4351-493A-826F-A728FBBA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C78-4309-4E9C-B6CB-EA53144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07F5-3561-44ED-9070-C34095E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CDBB-85DB-4698-AA37-97A4B0C4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C3A-BF93-4255-BC06-CA75EAB4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E0A7-18BD-4CDB-A3FD-EE51B714E889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0B8E-D827-41D5-A8F1-900A66D9F2A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à coins arrondis 1"/>
          <p:cNvSpPr/>
          <p:nvPr/>
        </p:nvSpPr>
        <p:spPr>
          <a:xfrm>
            <a:off x="2268360" y="1341360"/>
            <a:ext cx="4896000" cy="647640"/>
          </a:xfrm>
          <a:prstGeom prst="roundRect">
            <a:avLst>
              <a:gd name="adj" fmla="val 16667"/>
            </a:avLst>
          </a:prstGeom>
          <a:solidFill>
            <a:srgbClr val="38ff38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Tahoma"/>
              </a:rPr>
              <a:t>coP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10173"/>
                </a:solidFill>
                <a:latin typeface="Tahoma"/>
              </a:rPr>
              <a:t>J.E.Campagne               J.M.Martin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à coins arrondis 2"/>
          <p:cNvSpPr/>
          <p:nvPr/>
        </p:nvSpPr>
        <p:spPr>
          <a:xfrm>
            <a:off x="1692360" y="115920"/>
            <a:ext cx="6048360" cy="115236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Animation Scientifi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Tahoma"/>
              </a:rPr>
              <a:t>R.Ansari , Ch. Magneville, J.M.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ahoma"/>
              </a:rPr>
              <a:t>J.E Campagne, P. Colom, S. Mei, M. Moniez, A. S. Torrento,Ch. Yèche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à coins arrondis 4"/>
          <p:cNvSpPr/>
          <p:nvPr/>
        </p:nvSpPr>
        <p:spPr>
          <a:xfrm>
            <a:off x="2268360" y="206064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Ing. Proje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&amp; Sof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. Charl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Rectangle à coins arrondis 5"/>
          <p:cNvSpPr/>
          <p:nvPr/>
        </p:nvSpPr>
        <p:spPr>
          <a:xfrm>
            <a:off x="4643280" y="2060640"/>
            <a:ext cx="2521080" cy="792000"/>
          </a:xfrm>
          <a:prstGeom prst="roundRect">
            <a:avLst>
              <a:gd name="adj" fmla="val 16667"/>
            </a:avLst>
          </a:prstGeom>
          <a:solidFill>
            <a:srgbClr val="010173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Ing. Proj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Méca. &amp; Déploiem</a:t>
            </a:r>
            <a:r>
              <a:rPr b="1" lang="fr-FR" sz="1800" spc="-1" strike="noStrike" baseline="30000">
                <a:solidFill>
                  <a:srgbClr val="ffff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. Rigau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à coins arrondis 6"/>
          <p:cNvSpPr/>
          <p:nvPr/>
        </p:nvSpPr>
        <p:spPr>
          <a:xfrm>
            <a:off x="2268360" y="292428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Analogiq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h. Abb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Rectangle à coins arrondis 7"/>
          <p:cNvSpPr/>
          <p:nvPr/>
        </p:nvSpPr>
        <p:spPr>
          <a:xfrm>
            <a:off x="1116000" y="3789360"/>
            <a:ext cx="3384720" cy="86364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Elec. Digital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Th. Caceres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. Dumez-Viou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h. Flouzat, </a:t>
            </a:r>
            <a:r>
              <a:rPr b="0" i="1" lang="fr-FR" sz="1800" spc="-1" strike="noStrike">
                <a:solidFill>
                  <a:srgbClr val="ffffff"/>
                </a:solidFill>
                <a:latin typeface="Tahoma"/>
              </a:rPr>
              <a:t>B. Lachacinsk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à coins arrondis 8"/>
          <p:cNvSpPr/>
          <p:nvPr/>
        </p:nvSpPr>
        <p:spPr>
          <a:xfrm>
            <a:off x="1619280" y="4724280"/>
            <a:ext cx="2881440" cy="79236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Software DA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B. Mansoux, Cl. Paillet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M. Taurig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à coins arrondis 9"/>
          <p:cNvSpPr/>
          <p:nvPr/>
        </p:nvSpPr>
        <p:spPr>
          <a:xfrm>
            <a:off x="1692360" y="5661000"/>
            <a:ext cx="2808360" cy="1008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Crtl-Commande &amp; réseaux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F. Wicek, P. Cornebi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à coins arrondis 10"/>
          <p:cNvSpPr/>
          <p:nvPr/>
        </p:nvSpPr>
        <p:spPr>
          <a:xfrm>
            <a:off x="4643280" y="2924280"/>
            <a:ext cx="352908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Logistique &amp; liaison Nanç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S. Garnier,  S. Torchinsk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à coins arrondis 11"/>
          <p:cNvSpPr/>
          <p:nvPr/>
        </p:nvSpPr>
        <p:spPr>
          <a:xfrm>
            <a:off x="4643280" y="3824280"/>
            <a:ext cx="2232360" cy="79200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25560">
            <a:solidFill>
              <a:srgbClr val="23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Tahoma"/>
              </a:rPr>
              <a:t>Calcul E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J. Pezzan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1T12:20:35Z</dcterms:created>
  <dc:creator>J.E CAMPAGNE</dc:creator>
  <dc:description/>
  <dc:language>en-US</dc:language>
  <cp:lastModifiedBy>J.E CAMPAGNE</cp:lastModifiedBy>
  <dcterms:modified xsi:type="dcterms:W3CDTF">2012-04-11T12:21:27Z</dcterms:modified>
  <cp:revision>1</cp:revision>
  <dc:subject/>
  <dc:title>Diapositive 1</dc:title>
</cp:coreProperties>
</file>