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77E-8DC9-4E9F-A662-1B95FD39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60E-AA16-45C4-8CEC-C5FFD69E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102-ACBD-4FBC-BC5C-686C7C19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83E-DB41-47A2-8041-E098A536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BEE-B1E4-4E15-B8AC-B7B460FD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918-6321-409C-91BA-3A80D6F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AC4-47E2-4C6A-8765-4E5E845B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7FB-FE1F-448A-916E-419F9F24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35F-7EF8-4714-823D-51701239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984-6A06-4EB1-A232-562B277C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83D-BD06-4DD3-81F1-A87C3850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923-48BC-4DC5-ADC9-95201BAF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89E7-BCE5-4EFC-A3AE-CECCBF1A3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…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se de 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polarisations du plan focal du Radiotélescope de Nançay équipées par l’électronique BAO-Radio [1250-1500] MHz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tests en Juillet 2010: UGC4358 &amp; 3C227/3C28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emps dédié: 60h 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semestre 2011 sur, Abell1205, Abell2240, Abell85. Opérationnel depuis avril 201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ransfert des données sous Irod @ CCIN2P3: </a:t>
            </a: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75To HP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nalyse en cours semi-automatique: calibration, nettoyage de bande, spectres ON-OFF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But: suppression RFI, mesure HI Abell85, sensibilité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alyse temps-fré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4"/>
          <p:cNvSpPr/>
          <p:nvPr/>
        </p:nvSpPr>
        <p:spPr>
          <a:xfrm>
            <a:off x="4842720" y="2349360"/>
            <a:ext cx="37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ux d’acquisition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50MHz de largeur de b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 de ~30kHz (FFT au v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8811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4"/>
          <p:cNvSpPr/>
          <p:nvPr/>
        </p:nvSpPr>
        <p:spPr>
          <a:xfrm>
            <a:off x="4519800" y="9810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: running over 105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1857960" y="1916280"/>
            <a:ext cx="53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_i] = 0 and stdDev[r_i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ZoneTexte 12"/>
          <p:cNvSpPr/>
          <p:nvPr/>
        </p:nvSpPr>
        <p:spPr>
          <a:xfrm>
            <a:off x="4532400" y="638172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ot with the median filtering coming so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3"/>
          <p:cNvSpPr/>
          <p:nvPr/>
        </p:nvSpPr>
        <p:spPr>
          <a:xfrm>
            <a:off x="48276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250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62120" y="480960"/>
            <a:ext cx="58197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igma evolution in the protected freq. zone after 100 cy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6312960" y="314172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 follow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340000" y="96840"/>
            <a:ext cx="6619680" cy="657216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16200" y="3068640"/>
            <a:ext cx="29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 frequency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 o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quets in 25600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90600" y="76320"/>
            <a:ext cx="6562800" cy="670536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3207240" y="2276640"/>
            <a:ext cx="1837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08T15:46:18Z</dcterms:modified>
  <cp:revision>12</cp:revision>
  <dc:subject/>
  <dc:title>Diapositive 1</dc:title>
</cp:coreProperties>
</file>