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713-3732-4118-8845-026ED848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A87-8F60-49F5-9699-FCD01C89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159-2F0A-4F5C-9C14-FE06CC1E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6BF-6571-4A5A-B1BD-8204230E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0B2-8E92-4DBE-B4BB-ECF8F7EE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4E8-AD72-4EB0-9A0E-20C801CF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515-9463-4D99-BA96-9DD3C34B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947-BF1C-4DF6-928C-C9508042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3E9-C50B-4C2F-9B81-9187F564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59D-44CC-4440-AD8A-C6D12EED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838-60E5-4EDF-AC33-CF020FF9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2CF-F5A9-417C-93F4-EC1B1AA7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DD6D-DEB6-42F2-8AFF-9401A2134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 Torrentó 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AL-Or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1675" r="0" b="0"/>
          <a:stretch/>
        </p:blipFill>
        <p:spPr>
          <a:xfrm>
            <a:off x="1290600" y="189000"/>
            <a:ext cx="6562800" cy="65926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3273120" y="2276640"/>
            <a:ext cx="1837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ZoneTexte 3"/>
          <p:cNvGrpSpPr/>
          <p:nvPr/>
        </p:nvGrpSpPr>
        <p:grpSpPr>
          <a:xfrm>
            <a:off x="2451240" y="920880"/>
            <a:ext cx="1035000" cy="500040"/>
            <a:chOff x="2451240" y="920880"/>
            <a:chExt cx="1035000" cy="500040"/>
          </a:xfrm>
        </p:grpSpPr>
        <p:pic>
          <p:nvPicPr>
            <p:cNvPr id="93" name="ZoneTexte 3" descr=""/>
            <p:cNvPicPr/>
            <p:nvPr/>
          </p:nvPicPr>
          <p:blipFill>
            <a:blip r:embed="rId2"/>
            <a:stretch/>
          </p:blipFill>
          <p:spPr>
            <a:xfrm>
              <a:off x="2451240" y="920880"/>
              <a:ext cx="1035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602080" y="981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6248520" y="2895480"/>
            <a:ext cx="2600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s follow the 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ma evolution in the protected freq. Zone [1400-1420]MHz after 500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5"/>
          <p:cNvCxnSpPr/>
          <p:nvPr/>
        </p:nvCxnSpPr>
        <p:spPr>
          <a:xfrm>
            <a:off x="3419280" y="494136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9" name="ZoneTexte 6"/>
          <p:cNvSpPr/>
          <p:nvPr/>
        </p:nvSpPr>
        <p:spPr>
          <a:xfrm>
            <a:off x="2141640" y="4500720"/>
            <a:ext cx="327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10 sets of 50 cycl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K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41120"/>
            <a:ext cx="66009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acqui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 polaris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focal plane of the  Radiotelescope at Nançay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ipped with the BAO-Radio electron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250-1500]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n July 2010: UGC4358 &amp; 3C227/3C2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time: &gt;60h Q1&amp;2 of 2011 on Abell1205, Abell2240, Abell85. System tests: Jan-Mar 2011. Fully operational since April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Transfer on Irods @ CCIN2P3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5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automatic analysis ongoing: band cleaning, spectra ON-O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al: suppression of RFI, sensitivity, HI signal of Abell85 and if possible the other clus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2680" y="2060640"/>
            <a:ext cx="84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ime-frequenc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4495680" y="24382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quisition rate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andwidth [1250-1500]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ning ~30kHz (FFT on the f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4366800" y="5950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LIMINARY RESULT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4"/>
          <p:cNvSpPr/>
          <p:nvPr/>
        </p:nvSpPr>
        <p:spPr>
          <a:xfrm>
            <a:off x="4889520" y="83664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1081080" y="655560"/>
                <a:ext cx="3019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q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i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61" name="Connecteur droit avec flèche 11"/>
          <p:cNvCxnSpPr/>
          <p:nvPr/>
        </p:nvCxnSpPr>
        <p:spPr>
          <a:xfrm flipH="1" flipV="1">
            <a:off x="421092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2" name="ZoneTexte 12"/>
          <p:cNvSpPr/>
          <p:nvPr/>
        </p:nvSpPr>
        <p:spPr>
          <a:xfrm>
            <a:off x="4915800" y="1484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13"/>
          <p:cNvSpPr/>
          <p:nvPr/>
        </p:nvSpPr>
        <p:spPr>
          <a:xfrm>
            <a:off x="1619280" y="1125360"/>
            <a:ext cx="266544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330280"/>
            <a:ext cx="8177040" cy="397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5254920" y="5508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data as previous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93680" y="655560"/>
                <a:ext cx="4794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q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in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2" name="Connecteur droit avec flèche 10"/>
          <p:cNvCxnSpPr/>
          <p:nvPr/>
        </p:nvCxnSpPr>
        <p:spPr>
          <a:xfrm flipH="1" flipV="1">
            <a:off x="514764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3" name="Ellipse 11"/>
          <p:cNvSpPr/>
          <p:nvPr/>
        </p:nvSpPr>
        <p:spPr>
          <a:xfrm>
            <a:off x="755640" y="1125360"/>
            <a:ext cx="432108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4"/>
          <p:cNvSpPr/>
          <p:nvPr/>
        </p:nvSpPr>
        <p:spPr>
          <a:xfrm>
            <a:off x="5724360" y="126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dian for an exponential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ZoneTexte 17"/>
          <p:cNvGrpSpPr/>
          <p:nvPr/>
        </p:nvGrpSpPr>
        <p:grpSpPr>
          <a:xfrm>
            <a:off x="6913440" y="6248520"/>
            <a:ext cx="1870200" cy="506160"/>
            <a:chOff x="6913440" y="6248520"/>
            <a:chExt cx="1870200" cy="506160"/>
          </a:xfrm>
        </p:grpSpPr>
        <p:pic>
          <p:nvPicPr>
            <p:cNvPr id="76" name="ZoneTexte 17" descr=""/>
            <p:cNvPicPr/>
            <p:nvPr/>
          </p:nvPicPr>
          <p:blipFill>
            <a:blip r:embed="rId2"/>
            <a:stretch/>
          </p:blipFill>
          <p:spPr>
            <a:xfrm>
              <a:off x="6913440" y="6248520"/>
              <a:ext cx="187020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5600" y="6308640"/>
              <a:ext cx="15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Mind the 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427640" y="1857240"/>
            <a:ext cx="4537080" cy="4359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ison of the 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284720" cy="43066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0856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165000" y="170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8"/>
          <p:cNvSpPr/>
          <p:nvPr/>
        </p:nvSpPr>
        <p:spPr>
          <a:xfrm>
            <a:off x="3858840" y="162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dDev[r_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599160" y="299736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2935080" y="63817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eaning seems to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120000" cy="6076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79280" y="2492280"/>
            <a:ext cx="24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ver the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et of 25600 paq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4"/>
          <p:cNvSpPr/>
          <p:nvPr/>
        </p:nvSpPr>
        <p:spPr>
          <a:xfrm>
            <a:off x="190440" y="6922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x30sec x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00sec on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rcRect l="4261" t="47538" r="0" b="0"/>
          <a:stretch/>
        </p:blipFill>
        <p:spPr>
          <a:xfrm>
            <a:off x="468360" y="5877000"/>
            <a:ext cx="5292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17T19:55:27Z</dcterms:modified>
  <cp:revision>82</cp:revision>
  <dc:subject/>
  <dc:title>Diapositive 1</dc:title>
</cp:coreProperties>
</file>