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7C1-5BAE-45E3-A537-572B0E21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6D7-7FD3-41A6-84F3-3B1C7115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3AE-4B81-4673-9698-678220CC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01B-13B1-4A15-BD12-4AC71B41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8FE-25EA-4A73-A4C8-AA7D5EAB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29C-7B74-41F7-94BF-0CBA3D98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DF9-1A8B-4FE7-B787-9D99DB61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764-24D3-4977-9402-4CAF3C8A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C41-C867-4DAE-B4AC-A086903D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EAD-ADF0-41C6-98B8-2C6CCF4A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2BB-F3F4-4C5E-9321-7D540BF8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68D-22E1-4EA0-AE47-DA755943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8F64-537E-4EC8-970C-458869D8E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as@Nanç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na Torrentó &amp; JE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AL-Or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9/1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0" t="1675" r="0" b="0"/>
          <a:stretch/>
        </p:blipFill>
        <p:spPr>
          <a:xfrm>
            <a:off x="1290600" y="189000"/>
            <a:ext cx="6562800" cy="659268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2"/>
          <p:cNvSpPr/>
          <p:nvPr/>
        </p:nvSpPr>
        <p:spPr>
          <a:xfrm>
            <a:off x="3273120" y="2276640"/>
            <a:ext cx="18374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alactic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nçay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1400-1427]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ZoneTexte 3"/>
          <p:cNvGrpSpPr/>
          <p:nvPr/>
        </p:nvGrpSpPr>
        <p:grpSpPr>
          <a:xfrm>
            <a:off x="2451240" y="920880"/>
            <a:ext cx="1035000" cy="500040"/>
            <a:chOff x="2451240" y="920880"/>
            <a:chExt cx="1035000" cy="500040"/>
          </a:xfrm>
        </p:grpSpPr>
        <p:pic>
          <p:nvPicPr>
            <p:cNvPr id="93" name="ZoneTexte 3" descr=""/>
            <p:cNvPicPr/>
            <p:nvPr/>
          </p:nvPicPr>
          <p:blipFill>
            <a:blip r:embed="rId2"/>
            <a:stretch/>
          </p:blipFill>
          <p:spPr>
            <a:xfrm>
              <a:off x="2451240" y="920880"/>
              <a:ext cx="1035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602080" y="98100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Z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508720" cy="551664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4"/>
          <p:cNvSpPr/>
          <p:nvPr/>
        </p:nvSpPr>
        <p:spPr>
          <a:xfrm>
            <a:off x="6248520" y="2895480"/>
            <a:ext cx="2600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th channels follow the 1/sqrt(time)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ma evolution in the protected freq. Zone [1400-1420]MHz after 500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Connecteur droit avec flèche 5"/>
          <p:cNvCxnSpPr/>
          <p:nvPr/>
        </p:nvCxnSpPr>
        <p:spPr>
          <a:xfrm>
            <a:off x="3419280" y="4941360"/>
            <a:ext cx="108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9" name="ZoneTexte 6"/>
          <p:cNvSpPr/>
          <p:nvPr/>
        </p:nvSpPr>
        <p:spPr>
          <a:xfrm>
            <a:off x="2141640" y="4500720"/>
            <a:ext cx="327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10 sets of 50 cycle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ACK-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66680" y="141120"/>
            <a:ext cx="660096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ata acqui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 polaris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focal plane of the  Radiotelescope at Nançay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quipped with the BAO-Radio electronic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1250-1500]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sts in July 2010: UGC4358 &amp; 3C227/3C28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servation time: &gt;60h Q1&amp;2 of 2011 on Abell1205, Abell2240, Abell85. System tests: Jan-Mar 2011. Fully operational since April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Transfer on Irods @ CCIN2P3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25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-automatic analysis ongoing: band cleaning, spectra ON-OF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al: suppression of RFI, sensitivity, HI signal of Abell85 and if possible the other clust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82680" y="2060640"/>
            <a:ext cx="8410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ime-frequency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1" descr=""/>
          <p:cNvPicPr/>
          <p:nvPr/>
        </p:nvPicPr>
        <p:blipFill>
          <a:blip r:embed="rId1"/>
          <a:srcRect l="29397" t="3249" r="7032" b="3388"/>
          <a:stretch/>
        </p:blipFill>
        <p:spPr>
          <a:xfrm>
            <a:off x="2484360" y="1557360"/>
            <a:ext cx="1800360" cy="490212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4"/>
          <p:cNvSpPr/>
          <p:nvPr/>
        </p:nvSpPr>
        <p:spPr>
          <a:xfrm>
            <a:off x="4495680" y="2438280"/>
            <a:ext cx="44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quisition rate 8~1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andwidth [1250-1500]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inning ~30kHz (FFT on the f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4366800" y="59500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R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LIMINARY RESULTS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65880" cy="4003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4"/>
          <p:cNvSpPr/>
          <p:nvPr/>
        </p:nvSpPr>
        <p:spPr>
          <a:xfrm>
            <a:off x="4889520" y="83664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 running over 100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mall set just for demon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2090160" y="1916280"/>
            <a:ext cx="50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 = 0 and stdDev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ZoneTexte 13"/>
          <p:cNvSpPr/>
          <p:nvPr/>
        </p:nvSpPr>
        <p:spPr>
          <a:xfrm>
            <a:off x="59544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1"/>
              <p:cNvSpPr txBox="1"/>
              <p:nvPr/>
            </p:nvSpPr>
            <p:spPr>
              <a:xfrm>
                <a:off x="1081080" y="655560"/>
                <a:ext cx="3019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q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i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61" name="Connecteur droit avec flèche 11"/>
          <p:cNvCxnSpPr/>
          <p:nvPr/>
        </p:nvCxnSpPr>
        <p:spPr>
          <a:xfrm flipH="1" flipV="1">
            <a:off x="4210920" y="1556640"/>
            <a:ext cx="648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2" name="ZoneTexte 12"/>
          <p:cNvSpPr/>
          <p:nvPr/>
        </p:nvSpPr>
        <p:spPr>
          <a:xfrm>
            <a:off x="4915800" y="1484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llipse 13"/>
          <p:cNvSpPr/>
          <p:nvPr/>
        </p:nvSpPr>
        <p:spPr>
          <a:xfrm>
            <a:off x="1619280" y="1125360"/>
            <a:ext cx="266544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1280" y="2330280"/>
            <a:ext cx="8177040" cy="3978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4"/>
          <p:cNvSpPr/>
          <p:nvPr/>
        </p:nvSpPr>
        <p:spPr>
          <a:xfrm>
            <a:off x="5254920" y="55080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 running over 100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ame data as previous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090160" y="1916280"/>
            <a:ext cx="50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 = 0 and stdDev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ZoneTexte 13"/>
          <p:cNvSpPr/>
          <p:nvPr/>
        </p:nvSpPr>
        <p:spPr>
          <a:xfrm>
            <a:off x="59544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193680" y="655560"/>
                <a:ext cx="4794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di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di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aq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er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win</m:t>
                                        </m:r>
                                      </m:sub>
                                    </m:sSub>
                                  </m:e>
                                </m:rad>
                              </m:e>
                            </m: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2" name="Connecteur droit avec flèche 10"/>
          <p:cNvCxnSpPr/>
          <p:nvPr/>
        </p:nvCxnSpPr>
        <p:spPr>
          <a:xfrm flipH="1" flipV="1">
            <a:off x="5147640" y="1556640"/>
            <a:ext cx="648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3" name="Ellipse 11"/>
          <p:cNvSpPr/>
          <p:nvPr/>
        </p:nvSpPr>
        <p:spPr>
          <a:xfrm>
            <a:off x="755640" y="1125360"/>
            <a:ext cx="432108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4"/>
          <p:cNvSpPr/>
          <p:nvPr/>
        </p:nvSpPr>
        <p:spPr>
          <a:xfrm>
            <a:off x="5724360" y="1268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he median for an exponential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ZoneTexte 17"/>
          <p:cNvGrpSpPr/>
          <p:nvPr/>
        </p:nvGrpSpPr>
        <p:grpSpPr>
          <a:xfrm>
            <a:off x="6913440" y="6248520"/>
            <a:ext cx="1870200" cy="506160"/>
            <a:chOff x="6913440" y="6248520"/>
            <a:chExt cx="1870200" cy="506160"/>
          </a:xfrm>
        </p:grpSpPr>
        <p:pic>
          <p:nvPicPr>
            <p:cNvPr id="76" name="ZoneTexte 17" descr=""/>
            <p:cNvPicPr/>
            <p:nvPr/>
          </p:nvPicPr>
          <p:blipFill>
            <a:blip r:embed="rId2"/>
            <a:stretch/>
          </p:blipFill>
          <p:spPr>
            <a:xfrm>
              <a:off x="6913440" y="6248520"/>
              <a:ext cx="187020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095600" y="6308640"/>
              <a:ext cx="155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Mind the S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4427640" y="1857240"/>
            <a:ext cx="4537080" cy="4359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parison of the 2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284720" cy="43066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170856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7"/>
          <p:cNvSpPr/>
          <p:nvPr/>
        </p:nvSpPr>
        <p:spPr>
          <a:xfrm>
            <a:off x="6165000" y="1700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ith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8"/>
          <p:cNvSpPr/>
          <p:nvPr/>
        </p:nvSpPr>
        <p:spPr>
          <a:xfrm>
            <a:off x="3858840" y="1628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dDev[r_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9"/>
          <p:cNvSpPr/>
          <p:nvPr/>
        </p:nvSpPr>
        <p:spPr>
          <a:xfrm>
            <a:off x="6599160" y="2997360"/>
            <a:ext cx="170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R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0"/>
          <p:cNvSpPr/>
          <p:nvPr/>
        </p:nvSpPr>
        <p:spPr>
          <a:xfrm>
            <a:off x="2935080" y="638172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eaning seems to wor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771640" y="0"/>
            <a:ext cx="6120000" cy="60768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179280" y="2492280"/>
            <a:ext cx="248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nly median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ver the paq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et of 25600 paq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4"/>
          <p:cNvSpPr/>
          <p:nvPr/>
        </p:nvSpPr>
        <p:spPr>
          <a:xfrm>
            <a:off x="190440" y="69228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x30sec x 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000sec on 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rcRect l="4261" t="47538" r="0" b="0"/>
          <a:stretch/>
        </p:blipFill>
        <p:spPr>
          <a:xfrm>
            <a:off x="468360" y="5877000"/>
            <a:ext cx="52927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40Z</dcterms:created>
  <dc:creator>J.E CAMPAGNE</dc:creator>
  <dc:description/>
  <dc:language>en-US</dc:language>
  <cp:lastModifiedBy>J.E CAMPAGNE</cp:lastModifiedBy>
  <dcterms:modified xsi:type="dcterms:W3CDTF">2011-11-17T19:55:27Z</dcterms:modified>
  <cp:revision>82</cp:revision>
  <dc:subject/>
  <dc:title>Diapositive 1</dc:title>
</cp:coreProperties>
</file>