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FECA-B612-4E47-8EFE-3A2B017DE3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7DA3-6FAB-4CAA-8B58-9EFBE14C6CA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FF1-7083-4A71-B476-55DF070C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D63-4D60-415C-A336-1D2C4851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67B-8385-4C69-B852-88AAF5C3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658-979E-4510-A2F1-6ADF308E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B3781-2CA4-4455-82CB-702D2DA0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FB169-5301-4D9A-B82E-CF4CA315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1157B-8833-4866-B19D-AF701FAB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B62B1-1D85-4431-92A3-914700F3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BD233-87F2-4B70-BDE9-1ED71806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2AB52-311B-49E4-A394-FCA1C82D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E01C1-C4A5-4212-AA41-20567B3F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108-D368-42C2-A848-2B51AC8C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FC1DE-8DF9-4C6B-A1F6-84827165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D6A9F-31A8-4994-AD7F-47EB0E12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C73A3-D3A3-4F79-ACC9-DB096BF1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A5CB3-543C-41CF-A9F1-4CE01C8C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2A348-9D29-4A1B-9EF3-8FBB1BD4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39918-8A32-4D2D-8040-BCD676D9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4432-628C-48F4-B9FF-4E41425F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91CE-D5B7-40CD-B298-A5C32F91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0297-C3FF-4B90-AEE2-EBBC79D6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2A69-5CA8-48FC-BA8A-854B7882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F48-1C79-4802-BFCD-2A0EEED3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5C673-E32F-4A13-B264-41BD4F11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CED4-B66A-4A1A-925C-07049580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0BCC-36C9-4B25-B690-C5C7E5D3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AE5AB-6F9F-4FAF-BF71-8F88CE9E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9E54-599C-4B1D-B9BD-7D899240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333A-776E-4C8E-9068-0567F80D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1A4F-EAF6-4B94-A8EC-F41D95D4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0EC-37D6-44A7-AF32-69276388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EA2-A01C-4D14-A8B4-FEC31712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D47-22D5-4ABC-9361-998CAD23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583-81A3-4D91-9674-CF321135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81F-D4A3-4CCE-AEE0-449F1495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D23-05A9-4047-AB9C-4749E2A7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6F9F-2878-4A3F-9F54-A57FF53D5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F996-F3F3-4D5B-9321-CF81DCB8D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2402-553F-4723-9160-09351AE285C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.E Campagne LAL 15 Mar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F7E0-621B-43DD-85C8-4F5E5CEE2E1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95280" y="4135320"/>
            <a:ext cx="3213000" cy="19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303120"/>
            <a:ext cx="814392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300"/>
                </a:solidFill>
                <a:latin typeface="Tahoma"/>
              </a:rPr>
              <a:t>En cou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Cluster at Nanç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Rectangle 2"/>
          <p:cNvGrpSpPr/>
          <p:nvPr/>
        </p:nvGrpSpPr>
        <p:grpSpPr>
          <a:xfrm>
            <a:off x="268200" y="1047600"/>
            <a:ext cx="8302680" cy="3164040"/>
            <a:chOff x="268200" y="1047600"/>
            <a:chExt cx="8302680" cy="3164040"/>
          </a:xfrm>
        </p:grpSpPr>
        <p:pic>
          <p:nvPicPr>
            <p:cNvPr id="136" name="Rectangle 2" descr=""/>
            <p:cNvPicPr/>
            <p:nvPr/>
          </p:nvPicPr>
          <p:blipFill>
            <a:blip r:embed="rId2"/>
            <a:stretch/>
          </p:blipFill>
          <p:spPr>
            <a:xfrm>
              <a:off x="268200" y="1047600"/>
              <a:ext cx="8302680" cy="31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95280" y="1268280"/>
              <a:ext cx="790272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2 polarisations ortho. au foyer du N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Tahoma"/>
                </a:rPr>
                <a:t>Observations [1250, 1500]MHz avec l’électronique BAORadio sur de longues périodes: Avril 11- Dec 11, &gt;140To @ CCIN2P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Nettoyage RFI (*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Evolution des galaxies d’amas, détermination de la fraction de gaz H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Cartographie HI large bande (corrélation avec les observations optiques z ~ 0.3 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ZoneTexte 3"/>
          <p:cNvSpPr/>
          <p:nvPr/>
        </p:nvSpPr>
        <p:spPr>
          <a:xfrm>
            <a:off x="62280" y="6093000"/>
            <a:ext cx="419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nalyse essentiellement faite au LAL: A. S. Torrento &amp; J.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(*): Radio Frequency 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4680000" cy="1484280"/>
          </a:xfrm>
          <a:prstGeom prst="rect">
            <a:avLst/>
          </a:prstGeom>
          <a:ln w="0">
            <a:noFill/>
          </a:ln>
        </p:spPr>
      </p:pic>
      <p:sp>
        <p:nvSpPr>
          <p:cNvPr id="14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3F80-D939-4FF2-9008-80EA6FC1DA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ce réservé du pied de page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541600" y="1916280"/>
            <a:ext cx="2354400" cy="2339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volution de la sensibilit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920" y="191628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7"/>
          <p:cNvSpPr/>
          <p:nvPr/>
        </p:nvSpPr>
        <p:spPr>
          <a:xfrm>
            <a:off x="5076720" y="1611360"/>
            <a:ext cx="4067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Cycle = « ON source » et « OFF source 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nsemble des données des 3 amas visés.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500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cycles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~ 50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soit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4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« ON source »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ffectif (</a:t>
            </a:r>
            <a:r>
              <a:rPr b="0" lang="fr-FR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~30% DAQ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ZoneTexte 30"/>
          <p:cNvSpPr/>
          <p:nvPr/>
        </p:nvSpPr>
        <p:spPr>
          <a:xfrm>
            <a:off x="-56880" y="5303880"/>
            <a:ext cx="530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dentification de 2 phénomènes para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interférence spéculaire (miroir secondaire – cornet): 514k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On peut les réduire (futurs test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autre d’origine « inconnue » ~ 5MHz sur Ch 0 (à suivre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onnecteur droit 35"/>
          <p:cNvSpPr/>
          <p:nvPr/>
        </p:nvSpPr>
        <p:spPr>
          <a:xfrm>
            <a:off x="0" y="5157720"/>
            <a:ext cx="5076720" cy="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83400" y="4735440"/>
            <a:ext cx="35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 Jy = 10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6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Wm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(Cas A @ 1420MHz  2300J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Espace réservé du numéro de diapositiv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0294-B34B-4CA5-947C-2B1D79639D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Espace réservé du pied de page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ZoneTexte 17"/>
          <p:cNvSpPr/>
          <p:nvPr/>
        </p:nvSpPr>
        <p:spPr>
          <a:xfrm>
            <a:off x="415800" y="37162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ZoneTexte 18"/>
          <p:cNvSpPr/>
          <p:nvPr/>
        </p:nvSpPr>
        <p:spPr>
          <a:xfrm>
            <a:off x="2704680" y="3708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non-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oneTexte 19"/>
          <p:cNvSpPr/>
          <p:nvPr/>
        </p:nvSpPr>
        <p:spPr>
          <a:xfrm>
            <a:off x="-11160" y="4292640"/>
            <a:ext cx="52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Sensibilité identique dans les 2 bandes de fré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5148360" y="3573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bande non protégée 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onnecteur droit 22"/>
          <p:cNvSpPr/>
          <p:nvPr/>
        </p:nvSpPr>
        <p:spPr>
          <a:xfrm>
            <a:off x="5076720" y="3573360"/>
            <a:ext cx="0" cy="328464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5097600" y="4435560"/>
            <a:ext cx="40114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23"/>
          <p:cNvSpPr/>
          <p:nvPr/>
        </p:nvSpPr>
        <p:spPr>
          <a:xfrm>
            <a:off x="47664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400-142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ZoneTexte 24"/>
          <p:cNvSpPr/>
          <p:nvPr/>
        </p:nvSpPr>
        <p:spPr>
          <a:xfrm>
            <a:off x="299700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350-137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nnecteur droit 25"/>
          <p:cNvSpPr/>
          <p:nvPr/>
        </p:nvSpPr>
        <p:spPr>
          <a:xfrm>
            <a:off x="395280" y="3213000"/>
            <a:ext cx="4321080" cy="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ZoneTexte 26"/>
          <p:cNvSpPr/>
          <p:nvPr/>
        </p:nvSpPr>
        <p:spPr>
          <a:xfrm>
            <a:off x="689760" y="2997360"/>
            <a:ext cx="70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Tahoma"/>
              </a:rPr>
              <a:t>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Connecteur droit avec flèche 28"/>
          <p:cNvCxnSpPr/>
          <p:nvPr/>
        </p:nvCxnSpPr>
        <p:spPr>
          <a:xfrm>
            <a:off x="5651280" y="6163920"/>
            <a:ext cx="316908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ZoneTexte 29"/>
          <p:cNvSpPr/>
          <p:nvPr/>
        </p:nvSpPr>
        <p:spPr>
          <a:xfrm>
            <a:off x="5522040" y="623736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195960" y="2349360"/>
            <a:ext cx="2840040" cy="2716200"/>
          </a:xfrm>
          <a:prstGeom prst="rect">
            <a:avLst/>
          </a:prstGeom>
          <a:ln w="0">
            <a:noFill/>
          </a:ln>
        </p:spPr>
      </p:pic>
      <p:sp>
        <p:nvSpPr>
          <p:cNvPr id="165" name="ZoneTexte 21"/>
          <p:cNvSpPr/>
          <p:nvPr/>
        </p:nvSpPr>
        <p:spPr>
          <a:xfrm>
            <a:off x="6494400" y="2432160"/>
            <a:ext cx="2529360" cy="48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Galaxie HI (UGC4358) en ON-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400" spc="-1" strike="noStrike">
                <a:solidFill>
                  <a:srgbClr val="ffff00"/>
                </a:solidFill>
                <a:latin typeface="Tahoma"/>
              </a:rPr>
              <a:t>30 mJy.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326880" y="20520"/>
            <a:ext cx="8637840" cy="744480"/>
          </a:xfrm>
          <a:prstGeom prst="rect">
            <a:avLst/>
          </a:prstGeom>
          <a:ln w="0">
            <a:noFill/>
          </a:ln>
        </p:spPr>
      </p:pic>
      <p:cxnSp>
        <p:nvCxnSpPr>
          <p:cNvPr id="167" name="Connecteur droit avec flèche 6"/>
          <p:cNvCxnSpPr/>
          <p:nvPr/>
        </p:nvCxnSpPr>
        <p:spPr>
          <a:xfrm>
            <a:off x="250560" y="115560"/>
            <a:ext cx="1080" cy="64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ZoneTexte 7"/>
          <p:cNvSpPr/>
          <p:nvPr/>
        </p:nvSpPr>
        <p:spPr>
          <a:xfrm rot="16200000">
            <a:off x="-232920" y="29376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e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Connecteur droit avec flèche 8"/>
          <p:cNvCxnSpPr/>
          <p:nvPr/>
        </p:nvCxnSpPr>
        <p:spPr>
          <a:xfrm>
            <a:off x="755280" y="124920"/>
            <a:ext cx="705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ZoneTexte 11"/>
          <p:cNvSpPr/>
          <p:nvPr/>
        </p:nvSpPr>
        <p:spPr>
          <a:xfrm>
            <a:off x="7949160" y="-2700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req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30272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ZoneTexte 19"/>
          <p:cNvSpPr/>
          <p:nvPr/>
        </p:nvSpPr>
        <p:spPr>
          <a:xfrm>
            <a:off x="3990600" y="1916280"/>
            <a:ext cx="20185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Galaxie HI (NGC438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85 mJy.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6156360" y="189000"/>
            <a:ext cx="671400" cy="75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74" name="Groupe 27"/>
          <p:cNvGrpSpPr/>
          <p:nvPr/>
        </p:nvGrpSpPr>
        <p:grpSpPr>
          <a:xfrm>
            <a:off x="117360" y="3789360"/>
            <a:ext cx="3733920" cy="2854440"/>
            <a:chOff x="117360" y="3789360"/>
            <a:chExt cx="3733920" cy="2854440"/>
          </a:xfrm>
        </p:grpSpPr>
        <p:pic>
          <p:nvPicPr>
            <p:cNvPr id="175" name="Picture 18" descr="Image 10"/>
            <p:cNvPicPr/>
            <p:nvPr/>
          </p:nvPicPr>
          <p:blipFill>
            <a:blip r:embed="rId5"/>
            <a:stretch/>
          </p:blipFill>
          <p:spPr>
            <a:xfrm>
              <a:off x="117360" y="3789360"/>
              <a:ext cx="3733920" cy="2854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6" name="Line 19"/>
            <p:cNvSpPr/>
            <p:nvPr/>
          </p:nvSpPr>
          <p:spPr>
            <a:xfrm flipV="1">
              <a:off x="159696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0"/>
            <p:cNvSpPr/>
            <p:nvPr/>
          </p:nvSpPr>
          <p:spPr>
            <a:xfrm flipH="1" flipV="1">
              <a:off x="199044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H="1" flipV="1">
              <a:off x="2390400" y="405756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34920" y="765000"/>
            <a:ext cx="338940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ZoneTexte 3"/>
          <p:cNvSpPr/>
          <p:nvPr/>
        </p:nvSpPr>
        <p:spPr>
          <a:xfrm>
            <a:off x="2195640" y="981000"/>
            <a:ext cx="41767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igure de diffraction du RT au passage d’une radio source de calibration (continuum ~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20 Jy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ZoneTexte 32"/>
          <p:cNvSpPr/>
          <p:nvPr/>
        </p:nvSpPr>
        <p:spPr>
          <a:xfrm>
            <a:off x="3238920" y="5877000"/>
            <a:ext cx="5493600" cy="5356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Pas de raies détectables, 2</a:t>
            </a:r>
            <a:r>
              <a:rPr b="0" lang="fr-FR" sz="18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ON eff., avec </a:t>
            </a:r>
            <a:r>
              <a:rPr b="0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~ 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00"/>
                </a:solidFill>
                <a:latin typeface="Tahoma"/>
              </a:rPr>
              <a:t>Limite en cours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ZoneTexte 33"/>
          <p:cNvSpPr/>
          <p:nvPr/>
        </p:nvSpPr>
        <p:spPr>
          <a:xfrm>
            <a:off x="2559600" y="25653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ZoneTexte 34"/>
          <p:cNvSpPr/>
          <p:nvPr/>
        </p:nvSpPr>
        <p:spPr>
          <a:xfrm>
            <a:off x="5658840" y="3995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4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ZoneTexte 35"/>
          <p:cNvSpPr/>
          <p:nvPr/>
        </p:nvSpPr>
        <p:spPr>
          <a:xfrm>
            <a:off x="8220240" y="4356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ZoneTexte 36"/>
          <p:cNvSpPr/>
          <p:nvPr/>
        </p:nvSpPr>
        <p:spPr>
          <a:xfrm>
            <a:off x="6209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ZoneTexte 37"/>
          <p:cNvSpPr/>
          <p:nvPr/>
        </p:nvSpPr>
        <p:spPr>
          <a:xfrm>
            <a:off x="8513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ZoneTexte 39"/>
          <p:cNvSpPr/>
          <p:nvPr/>
        </p:nvSpPr>
        <p:spPr>
          <a:xfrm>
            <a:off x="7891200" y="29242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Juil.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ZoneTexte 40"/>
          <p:cNvSpPr/>
          <p:nvPr/>
        </p:nvSpPr>
        <p:spPr>
          <a:xfrm>
            <a:off x="2189880" y="15573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ZoneTexte 41"/>
          <p:cNvSpPr/>
          <p:nvPr/>
        </p:nvSpPr>
        <p:spPr>
          <a:xfrm>
            <a:off x="5069520" y="2492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Oct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ZoneTexte 42"/>
          <p:cNvSpPr/>
          <p:nvPr/>
        </p:nvSpPr>
        <p:spPr>
          <a:xfrm>
            <a:off x="2169000" y="4149720"/>
            <a:ext cx="138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Avr.-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1"/>
          <p:cNvSpPr/>
          <p:nvPr/>
        </p:nvSpPr>
        <p:spPr>
          <a:xfrm>
            <a:off x="5435640" y="1700280"/>
            <a:ext cx="3313080" cy="46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2" descr="RadarZoom"/>
          <p:cNvPicPr/>
          <p:nvPr/>
        </p:nvPicPr>
        <p:blipFill>
          <a:blip r:embed="rId1"/>
          <a:stretch/>
        </p:blipFill>
        <p:spPr>
          <a:xfrm>
            <a:off x="900000" y="3429000"/>
            <a:ext cx="3959280" cy="30369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0" lang="fr-FR" sz="37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imination des RFI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Groupe 28"/>
          <p:cNvGrpSpPr/>
          <p:nvPr/>
        </p:nvGrpSpPr>
        <p:grpSpPr>
          <a:xfrm>
            <a:off x="86760" y="1219320"/>
            <a:ext cx="4772520" cy="2230200"/>
            <a:chOff x="86760" y="1219320"/>
            <a:chExt cx="4772520" cy="2230200"/>
          </a:xfrm>
        </p:grpSpPr>
        <p:pic>
          <p:nvPicPr>
            <p:cNvPr id="195" name="Picture 23" descr="Radar"/>
            <p:cNvPicPr/>
            <p:nvPr/>
          </p:nvPicPr>
          <p:blipFill>
            <a:blip r:embed="rId2"/>
            <a:stretch/>
          </p:blipFill>
          <p:spPr>
            <a:xfrm>
              <a:off x="897840" y="1523880"/>
              <a:ext cx="39614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24"/>
            <p:cNvSpPr/>
            <p:nvPr/>
          </p:nvSpPr>
          <p:spPr>
            <a:xfrm>
              <a:off x="4391280" y="2111400"/>
              <a:ext cx="456840" cy="533160"/>
            </a:xfrm>
            <a:prstGeom prst="ellipse">
              <a:avLst/>
            </a:pr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 flipH="1">
              <a:off x="3851280" y="2590920"/>
              <a:ext cx="626760" cy="8586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8" name="Connecteur droit avec flèche 24"/>
            <p:cNvCxnSpPr/>
            <p:nvPr/>
          </p:nvCxnSpPr>
          <p:spPr>
            <a:xfrm>
              <a:off x="779040" y="1773000"/>
              <a:ext cx="1080" cy="115164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9" name="Text Box 34"/>
            <p:cNvSpPr/>
            <p:nvPr/>
          </p:nvSpPr>
          <p:spPr>
            <a:xfrm>
              <a:off x="95400" y="2255760"/>
              <a:ext cx="772920" cy="1828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ahoma"/>
                </a:rPr>
                <a:t>1350 MH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ZoneTexte 25"/>
            <p:cNvSpPr/>
            <p:nvPr/>
          </p:nvSpPr>
          <p:spPr>
            <a:xfrm>
              <a:off x="86760" y="26276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Freq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Connecteur droit avec flèche 26"/>
            <p:cNvCxnSpPr/>
            <p:nvPr/>
          </p:nvCxnSpPr>
          <p:spPr>
            <a:xfrm flipV="1">
              <a:off x="779040" y="1772640"/>
              <a:ext cx="1151640" cy="10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2" name="ZoneTexte 27"/>
            <p:cNvSpPr/>
            <p:nvPr/>
          </p:nvSpPr>
          <p:spPr>
            <a:xfrm>
              <a:off x="1685880" y="17726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Tem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45560" y="1219320"/>
              <a:ext cx="402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Radars Roissy et bruit électron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9738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16596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2345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28"/>
            <p:cNvSpPr/>
            <p:nvPr/>
          </p:nvSpPr>
          <p:spPr>
            <a:xfrm>
              <a:off x="37929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31071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0"/>
            <p:cNvSpPr/>
            <p:nvPr/>
          </p:nvSpPr>
          <p:spPr>
            <a:xfrm>
              <a:off x="4478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31"/>
            <p:cNvSpPr/>
            <p:nvPr/>
          </p:nvSpPr>
          <p:spPr>
            <a:xfrm>
              <a:off x="4619880" y="2971800"/>
              <a:ext cx="23472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se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Espace réservé du numéro de diapositive 29"/>
          <p:cNvSpPr/>
          <p:nvPr/>
        </p:nvSpPr>
        <p:spPr>
          <a:xfrm>
            <a:off x="6843600" y="-24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CDAB-BF68-4766-AE29-8AC164855018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Espace réservé du pied de page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Espace réservé du pied de page 7"/>
          <p:cNvSpPr/>
          <p:nvPr/>
        </p:nvSpPr>
        <p:spPr>
          <a:xfrm>
            <a:off x="2916360" y="0"/>
            <a:ext cx="28954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0"/>
          <p:cNvSpPr/>
          <p:nvPr/>
        </p:nvSpPr>
        <p:spPr>
          <a:xfrm>
            <a:off x="5076720" y="907920"/>
            <a:ext cx="381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Résol. 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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 = 30kHz (sur 250MHz) et 1 trame toutes les 100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e 41"/>
          <p:cNvGrpSpPr/>
          <p:nvPr/>
        </p:nvGrpSpPr>
        <p:grpSpPr>
          <a:xfrm>
            <a:off x="5580000" y="1700280"/>
            <a:ext cx="2952720" cy="2233440"/>
            <a:chOff x="5580000" y="1700280"/>
            <a:chExt cx="2952720" cy="2233440"/>
          </a:xfrm>
        </p:grpSpPr>
        <p:pic>
          <p:nvPicPr>
            <p:cNvPr id="216" name="Picture 2" descr=""/>
            <p:cNvPicPr/>
            <p:nvPr/>
          </p:nvPicPr>
          <p:blipFill>
            <a:blip r:embed="rId3"/>
            <a:stretch/>
          </p:blipFill>
          <p:spPr>
            <a:xfrm>
              <a:off x="5580000" y="1772280"/>
              <a:ext cx="2952720" cy="21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ZoneTexte 39"/>
            <p:cNvSpPr/>
            <p:nvPr/>
          </p:nvSpPr>
          <p:spPr>
            <a:xfrm>
              <a:off x="6049440" y="1700280"/>
              <a:ext cx="1515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ans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e 42"/>
          <p:cNvGrpSpPr/>
          <p:nvPr/>
        </p:nvGrpSpPr>
        <p:grpSpPr>
          <a:xfrm>
            <a:off x="5580000" y="4076640"/>
            <a:ext cx="3024360" cy="2232000"/>
            <a:chOff x="5580000" y="4076640"/>
            <a:chExt cx="3024360" cy="2232000"/>
          </a:xfrm>
        </p:grpSpPr>
        <p:pic>
          <p:nvPicPr>
            <p:cNvPr id="219" name="Picture 2" descr=""/>
            <p:cNvPicPr/>
            <p:nvPr/>
          </p:nvPicPr>
          <p:blipFill>
            <a:blip r:embed="rId4"/>
            <a:stretch/>
          </p:blipFill>
          <p:spPr>
            <a:xfrm>
              <a:off x="5580000" y="4148640"/>
              <a:ext cx="302436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ZoneTexte 37"/>
            <p:cNvSpPr/>
            <p:nvPr/>
          </p:nvSpPr>
          <p:spPr>
            <a:xfrm>
              <a:off x="6192360" y="4076640"/>
              <a:ext cx="1512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Avec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ZoneTexte 43"/>
          <p:cNvSpPr/>
          <p:nvPr/>
        </p:nvSpPr>
        <p:spPr>
          <a:xfrm>
            <a:off x="7124040" y="6381720"/>
            <a:ext cx="176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ahoma"/>
              </a:rPr>
              <a:t>Filtrage médian sur 0.6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16000" y="2421000"/>
            <a:ext cx="8893080" cy="3670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1"/>
          <p:cNvSpPr/>
          <p:nvPr/>
        </p:nvSpPr>
        <p:spPr>
          <a:xfrm>
            <a:off x="1187280" y="1341360"/>
            <a:ext cx="7272360" cy="94716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</a:t>
            </a: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bande non protégée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Connecteur droit avec flèche 7"/>
          <p:cNvCxnSpPr/>
          <p:nvPr/>
        </p:nvCxnSpPr>
        <p:spPr>
          <a:xfrm flipV="1">
            <a:off x="1476000" y="6163920"/>
            <a:ext cx="7344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25" name="ZoneTexte 29"/>
          <p:cNvSpPr/>
          <p:nvPr/>
        </p:nvSpPr>
        <p:spPr>
          <a:xfrm>
            <a:off x="3266280" y="630864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20:08Z</dcterms:created>
  <dc:creator>J.E CAMPAGNE</dc:creator>
  <dc:description/>
  <dc:language>en-US</dc:language>
  <cp:lastModifiedBy>J.E CAMPAGNE</cp:lastModifiedBy>
  <dcterms:modified xsi:type="dcterms:W3CDTF">2012-03-29T07:18:50Z</dcterms:modified>
  <cp:revision>5</cp:revision>
  <dc:subject/>
  <dc:title>Diapositive 1</dc:title>
</cp:coreProperties>
</file>