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3FF-060D-4D40-B504-C95D630F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219-24CE-44C0-8176-CEA7DE1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A80-F110-41CC-B229-28E48541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79A-23C3-460E-B096-DC62E8D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AFA-6451-4EA3-897D-605C71CC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4D4-28C4-4422-BADE-8A3FB1E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67B-0310-4C29-A73D-556E4AD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4F5-4BAE-479C-BE10-C23BDC44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63C-6ED6-4274-B7A4-01E0D2F6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33B-BCED-4C45-ADF4-92BCB02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D26-8849-4822-9AF1-054AF9A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214-40C4-485F-8187-1AFB892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8F1-170D-4A31-BAD3-BA0AB9193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6083640" cy="335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2592360" cy="183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230796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1577880" y="1916280"/>
            <a:ext cx="6018480" cy="24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5"/>
          <a:stretch/>
        </p:blipFill>
        <p:spPr>
          <a:xfrm>
            <a:off x="7715160" y="6021360"/>
            <a:ext cx="1320840" cy="76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2.e-monsite.com/2009/12/31/12/paon_bleu.jpg"/>
          <p:cNvPicPr/>
          <p:nvPr/>
        </p:nvPicPr>
        <p:blipFill>
          <a:blip r:embed="rId6"/>
          <a:stretch/>
        </p:blipFill>
        <p:spPr>
          <a:xfrm>
            <a:off x="108000" y="6021360"/>
            <a:ext cx="105876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15"/>
          <p:cNvGrpSpPr/>
          <p:nvPr/>
        </p:nvGrpSpPr>
        <p:grpSpPr>
          <a:xfrm>
            <a:off x="0" y="700200"/>
            <a:ext cx="9163080" cy="5457600"/>
            <a:chOff x="0" y="700200"/>
            <a:chExt cx="9163080" cy="545760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700200"/>
              <a:ext cx="9163080" cy="54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ZoneTexte 7"/>
            <p:cNvSpPr/>
            <p:nvPr/>
          </p:nvSpPr>
          <p:spPr>
            <a:xfrm>
              <a:off x="1122840" y="5661360"/>
              <a:ext cx="296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ZoneTexte 8"/>
            <p:cNvSpPr/>
            <p:nvPr/>
          </p:nvSpPr>
          <p:spPr>
            <a:xfrm>
              <a:off x="203184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ZoneTexte 9"/>
            <p:cNvSpPr/>
            <p:nvPr/>
          </p:nvSpPr>
          <p:spPr>
            <a:xfrm>
              <a:off x="304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ZoneTexte 10"/>
            <p:cNvSpPr/>
            <p:nvPr/>
          </p:nvSpPr>
          <p:spPr>
            <a:xfrm>
              <a:off x="412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3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ZoneTexte 11"/>
            <p:cNvSpPr/>
            <p:nvPr/>
          </p:nvSpPr>
          <p:spPr>
            <a:xfrm>
              <a:off x="520020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4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ZoneTexte 12"/>
            <p:cNvSpPr/>
            <p:nvPr/>
          </p:nvSpPr>
          <p:spPr>
            <a:xfrm>
              <a:off x="617976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5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ZoneTexte 13"/>
            <p:cNvSpPr/>
            <p:nvPr/>
          </p:nvSpPr>
          <p:spPr>
            <a:xfrm>
              <a:off x="728856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6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ZoneTexte 14"/>
            <p:cNvSpPr/>
            <p:nvPr/>
          </p:nvSpPr>
          <p:spPr>
            <a:xfrm>
              <a:off x="8340120" y="566136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7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ZoneTexte 4"/>
          <p:cNvSpPr/>
          <p:nvPr/>
        </p:nvSpPr>
        <p:spPr>
          <a:xfrm>
            <a:off x="2420640" y="33336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of fit  of cross correlations during CygA tran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0:11:24Z</dcterms:created>
  <dc:creator>J.E CAMPAGNE</dc:creator>
  <dc:description/>
  <dc:language>en-US</dc:language>
  <cp:lastModifiedBy>J.E CAMPAGNE</cp:lastModifiedBy>
  <dcterms:modified xsi:type="dcterms:W3CDTF">2013-02-21T10:22:00Z</dcterms:modified>
  <cp:revision>2</cp:revision>
  <dc:subject/>
  <dc:title>Diapositive 1</dc:title>
</cp:coreProperties>
</file>