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AA4-8847-4743-989B-D5CF276A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082-FECE-4497-AC8A-1558932F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6A1-E1B2-4F53-9520-7AF8842C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C12-11E3-4F7E-ACA4-5E78D0C5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C33-AAE0-4381-B779-1DCB4677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19B-D08C-4851-8C96-83F719EF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6A8-32D1-4B5F-9B78-B30A7892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244-CBC4-47AE-9803-DA9CB70F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746-1733-410D-8905-F3104055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3BF-C51F-4ECD-89AF-ED196A44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171-6215-4727-8F6F-5806117F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EF5-5295-4F26-B8E8-86BB2139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69CE-E86C-4019-9610-CA470F529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6083640" cy="3355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2592360" cy="1832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788000" y="189000"/>
            <a:ext cx="2307960" cy="167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1577880" y="1916280"/>
            <a:ext cx="6018480" cy="246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5"/>
          <a:stretch/>
        </p:blipFill>
        <p:spPr>
          <a:xfrm>
            <a:off x="7715160" y="6021360"/>
            <a:ext cx="1320840" cy="76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s2.e-monsite.com/2009/12/31/12/paon_bleu.jpg"/>
          <p:cNvPicPr/>
          <p:nvPr/>
        </p:nvPicPr>
        <p:blipFill>
          <a:blip r:embed="rId6"/>
          <a:stretch/>
        </p:blipFill>
        <p:spPr>
          <a:xfrm>
            <a:off x="108000" y="6021360"/>
            <a:ext cx="105876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e 15"/>
          <p:cNvGrpSpPr/>
          <p:nvPr/>
        </p:nvGrpSpPr>
        <p:grpSpPr>
          <a:xfrm>
            <a:off x="0" y="700200"/>
            <a:ext cx="9163080" cy="5457600"/>
            <a:chOff x="0" y="700200"/>
            <a:chExt cx="9163080" cy="5457600"/>
          </a:xfrm>
        </p:grpSpPr>
        <p:pic>
          <p:nvPicPr>
            <p:cNvPr id="4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700200"/>
              <a:ext cx="9163080" cy="54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ZoneTexte 7"/>
            <p:cNvSpPr/>
            <p:nvPr/>
          </p:nvSpPr>
          <p:spPr>
            <a:xfrm>
              <a:off x="1122840" y="5661360"/>
              <a:ext cx="296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ZoneTexte 8"/>
            <p:cNvSpPr/>
            <p:nvPr/>
          </p:nvSpPr>
          <p:spPr>
            <a:xfrm>
              <a:off x="203184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ZoneTexte 9"/>
            <p:cNvSpPr/>
            <p:nvPr/>
          </p:nvSpPr>
          <p:spPr>
            <a:xfrm>
              <a:off x="304020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ZoneTexte 10"/>
            <p:cNvSpPr/>
            <p:nvPr/>
          </p:nvSpPr>
          <p:spPr>
            <a:xfrm>
              <a:off x="412020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3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ZoneTexte 11"/>
            <p:cNvSpPr/>
            <p:nvPr/>
          </p:nvSpPr>
          <p:spPr>
            <a:xfrm>
              <a:off x="520020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4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ZoneTexte 12"/>
            <p:cNvSpPr/>
            <p:nvPr/>
          </p:nvSpPr>
          <p:spPr>
            <a:xfrm>
              <a:off x="617976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5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ZoneTexte 13"/>
            <p:cNvSpPr/>
            <p:nvPr/>
          </p:nvSpPr>
          <p:spPr>
            <a:xfrm>
              <a:off x="728856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6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ZoneTexte 14"/>
            <p:cNvSpPr/>
            <p:nvPr/>
          </p:nvSpPr>
          <p:spPr>
            <a:xfrm>
              <a:off x="834012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7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ZoneTexte 4"/>
          <p:cNvSpPr/>
          <p:nvPr/>
        </p:nvSpPr>
        <p:spPr>
          <a:xfrm>
            <a:off x="2420640" y="333360"/>
            <a:ext cx="526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 of fit  of cross correlations during CygA trans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0:11:24Z</dcterms:created>
  <dc:creator>J.E CAMPAGNE</dc:creator>
  <dc:description/>
  <dc:language>en-US</dc:language>
  <cp:lastModifiedBy>J.E CAMPAGNE</cp:lastModifiedBy>
  <dcterms:modified xsi:type="dcterms:W3CDTF">2013-02-21T10:22:00Z</dcterms:modified>
  <cp:revision>2</cp:revision>
  <dc:subject/>
  <dc:title>Diapositive 1</dc:title>
</cp:coreProperties>
</file>